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761163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jpe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189000" y="5719680"/>
          <a:ext cx="1100160" cy="673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9000" y="5719680"/>
                    <a:ext cx="1100160" cy="6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0"/>
            <a:ext cx="914400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6a01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5"/>
          <a:srcRect l="192" t="61153" r="0" b="0"/>
          <a:stretch/>
        </p:blipFill>
        <p:spPr>
          <a:xfrm>
            <a:off x="0" y="6381720"/>
            <a:ext cx="9147240" cy="47628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6"/>
          <a:stretch/>
        </p:blipFill>
        <p:spPr>
          <a:xfrm>
            <a:off x="8028000" y="392040"/>
            <a:ext cx="936720" cy="8222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6767640" y="0"/>
            <a:ext cx="2376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© Learning Dimensions International Pty Lt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11280" y="1773360"/>
            <a:ext cx="767880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f315a"/>
                </a:solidFill>
                <a:latin typeface="Arial"/>
              </a:rPr>
              <a:t>Creating Safety Cultu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f315a"/>
                </a:solidFill>
                <a:latin typeface="Arial"/>
              </a:rPr>
              <a:t>Designed in Partnership with your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f315a"/>
                </a:solidFill>
                <a:latin typeface="Arial"/>
              </a:rPr>
              <a:t>Built to create your Desired Cul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95200" y="5315040"/>
            <a:ext cx="8640720" cy="9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a7c1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99a7c1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99a7c1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99a7c1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99a7c1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99a7c1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ouise Quin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Dir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Learning Dimensions Internatio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39760" y="5329080"/>
            <a:ext cx="1665360" cy="10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>
            <a:stCxn id="48" idx="4"/>
            <a:endCxn id="48" idx="4"/>
          </p:cNvCxnSpPr>
          <p:nvPr/>
        </p:nvCxnSpPr>
        <p:spPr>
          <a:xfrm>
            <a:off x="456840" y="3604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9" name=""/>
          <p:cNvSpPr/>
          <p:nvPr/>
        </p:nvSpPr>
        <p:spPr>
          <a:xfrm>
            <a:off x="5056200" y="3782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456840" y="1490760"/>
            <a:ext cx="7908840" cy="2174040"/>
            <a:chOff x="456840" y="1490760"/>
            <a:chExt cx="7908840" cy="2174040"/>
          </a:xfrm>
        </p:grpSpPr>
        <p:grpSp>
          <p:nvGrpSpPr>
            <p:cNvPr id="51" name=""/>
            <p:cNvGrpSpPr/>
            <p:nvPr/>
          </p:nvGrpSpPr>
          <p:grpSpPr>
            <a:xfrm>
              <a:off x="456840" y="1490760"/>
              <a:ext cx="7908840" cy="2116080"/>
              <a:chOff x="456840" y="1490760"/>
              <a:chExt cx="7908840" cy="2116080"/>
            </a:xfrm>
          </p:grpSpPr>
          <p:sp>
            <p:nvSpPr>
              <p:cNvPr id="48" name=""/>
              <p:cNvSpPr/>
              <p:nvPr/>
            </p:nvSpPr>
            <p:spPr>
              <a:xfrm flipH="1">
                <a:off x="456480" y="1490760"/>
                <a:ext cx="7908840" cy="2114280"/>
              </a:xfrm>
              <a:prstGeom prst="rtTriangl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3283920" y="2846520"/>
                <a:ext cx="9000" cy="760320"/>
              </a:xfrm>
              <a:custGeom>
                <a:avLst/>
                <a:gdLst/>
                <a:ahLst/>
                <a:rect l="l" t="t" r="r" b="b"/>
                <a:pathLst>
                  <a:path w="5" h="489">
                    <a:moveTo>
                      <a:pt x="5" y="489"/>
                    </a:move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4402800" y="2560680"/>
                <a:ext cx="9360" cy="1044360"/>
              </a:xfrm>
              <a:custGeom>
                <a:avLst/>
                <a:gdLst/>
                <a:ahLst/>
                <a:rect l="l" t="t" r="r" b="b"/>
                <a:pathLst>
                  <a:path w="5" h="672">
                    <a:moveTo>
                      <a:pt x="5" y="672"/>
                    </a:move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513400" y="2225520"/>
                <a:ext cx="4680" cy="1381320"/>
              </a:xfrm>
              <a:custGeom>
                <a:avLst/>
                <a:gdLst/>
                <a:ahLst/>
                <a:rect l="l" t="t" r="r" b="b"/>
                <a:pathLst>
                  <a:path w="3" h="889">
                    <a:moveTo>
                      <a:pt x="3" y="889"/>
                    </a:move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863760" y="1890720"/>
                <a:ext cx="12240" cy="1714320"/>
              </a:xfrm>
              <a:custGeom>
                <a:avLst/>
                <a:gdLst/>
                <a:ahLst/>
                <a:rect l="l" t="t" r="r" b="b"/>
                <a:pathLst>
                  <a:path w="7" h="1104">
                    <a:moveTo>
                      <a:pt x="0" y="0"/>
                    </a:moveTo>
                    <a:lnTo>
                      <a:pt x="7" y="110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V="1">
                <a:off x="2024280" y="3182400"/>
                <a:ext cx="0" cy="42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6868440" y="2038320"/>
              <a:ext cx="148932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00"/>
                  </a:solidFill>
                  <a:latin typeface="Arial"/>
                </a:rPr>
                <a:t>Culture of the way we wor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00"/>
                  </a:solidFill>
                  <a:latin typeface="Arial"/>
                </a:rPr>
                <a:t>(clients / subbies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467680" y="2560680"/>
              <a:ext cx="140364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</a:rPr>
                <a:t>Unsafe Behaviour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420080" y="2846520"/>
              <a:ext cx="118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Near Mis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279240" y="2805120"/>
              <a:ext cx="11091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MTI’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(First Aid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032200" y="3193920"/>
              <a:ext cx="1251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LTI’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143000" y="3327480"/>
              <a:ext cx="94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eath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6507000" y="4165560"/>
            <a:ext cx="285444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buClr>
                <a:srgbClr val="f6a01a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ersonalisation of Safe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f6a01a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Ownership of Safety     Responsibi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f6a01a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ocus on Preven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f6a01a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onsistent Messa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f6a01a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alues Ev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f6a01a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Leaders’ Behaviour Congru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05440" y="4168800"/>
            <a:ext cx="1430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23800" y="3782880"/>
            <a:ext cx="2832120" cy="0"/>
          </a:xfrm>
          <a:prstGeom prst="line">
            <a:avLst/>
          </a:prstGeom>
          <a:ln w="9360">
            <a:solidFill>
              <a:srgbClr val="f6a01a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300480" y="3787920"/>
            <a:ext cx="5089320" cy="0"/>
          </a:xfrm>
          <a:prstGeom prst="line">
            <a:avLst/>
          </a:prstGeom>
          <a:ln w="9360">
            <a:solidFill>
              <a:srgbClr val="f6a01a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016520" y="3765600"/>
            <a:ext cx="377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LEAD Indicators / Pro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184760" y="3730680"/>
            <a:ext cx="187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LAG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ndic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62080" y="1690560"/>
            <a:ext cx="2325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f315a"/>
                </a:solidFill>
                <a:latin typeface="Arial"/>
              </a:rPr>
              <a:t>Adaptation of “Birds”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f315a"/>
                </a:solidFill>
                <a:latin typeface="Arial"/>
              </a:rPr>
              <a:t>New Focus - Cul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71360" y="5562720"/>
            <a:ext cx="145584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305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0" y="5560920"/>
            <a:ext cx="1309680" cy="8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f315a"/>
                </a:solidFill>
                <a:latin typeface="Arial"/>
              </a:rPr>
              <a:t>Examples of Ho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67840" y="1455480"/>
            <a:ext cx="862164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315a"/>
                </a:solidFill>
                <a:latin typeface="Arial"/>
              </a:rPr>
              <a:t>Company A</a:t>
            </a:r>
            <a:r>
              <a:rPr b="1" lang="en-US" sz="1400" spc="-1" strike="noStrike">
                <a:solidFill>
                  <a:srgbClr val="0f315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f315a"/>
                </a:solidFill>
                <a:latin typeface="Arial"/>
              </a:rPr>
              <a:t>Large Industrial Organis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315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f315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f315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f315a"/>
                </a:solidFill>
                <a:latin typeface="Arial"/>
              </a:rPr>
              <a:t>Growing Recordable Injury Frequency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187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315a"/>
                </a:solidFill>
                <a:latin typeface="Arial"/>
              </a:rPr>
              <a:t>Seeking to facilitate major Safety Cultural 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187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315a"/>
                </a:solidFill>
                <a:latin typeface="Arial"/>
              </a:rPr>
              <a:t>Several interventions provi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187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315a"/>
                </a:solidFill>
                <a:latin typeface="Arial"/>
              </a:rPr>
              <a:t>Dramatic &amp; sustained reduction in RIFR</a:t>
            </a:r>
            <a:r>
              <a:rPr b="0" lang="en-US" sz="1800" spc="-1" strike="noStrike">
                <a:solidFill>
                  <a:srgbClr val="0f315a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187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315a"/>
                </a:solidFill>
                <a:latin typeface="Arial"/>
              </a:rPr>
              <a:t>Significant changes in safety culture</a:t>
            </a:r>
            <a:r>
              <a:rPr b="0" lang="en-US" sz="1800" spc="-1" strike="noStrike">
                <a:solidFill>
                  <a:srgbClr val="0f315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f315a"/>
                </a:solidFill>
                <a:latin typeface="Arial"/>
              </a:rPr>
              <a:t>- Award Winning</a:t>
            </a:r>
            <a:r>
              <a:rPr b="0" lang="en-US" sz="1800" spc="-1" strike="noStrike">
                <a:solidFill>
                  <a:srgbClr val="0f315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f315a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315a"/>
                </a:solidFill>
                <a:latin typeface="Arial"/>
              </a:rPr>
              <a:t>Company B</a:t>
            </a:r>
            <a:r>
              <a:rPr b="0" lang="en-US" sz="1800" spc="-1" strike="noStrike">
                <a:solidFill>
                  <a:srgbClr val="0f315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f315a"/>
                </a:solidFill>
                <a:latin typeface="Arial"/>
              </a:rPr>
              <a:t>Following on from huge $$ on ‘Safety Program’ – Limited 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187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315a"/>
                </a:solidFill>
                <a:latin typeface="Arial"/>
              </a:rPr>
              <a:t>Build in Partnership Program Behavioural / Cultu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187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315a"/>
                </a:solidFill>
                <a:latin typeface="Arial"/>
              </a:rPr>
              <a:t>Instant &amp; ongoing suc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315a"/>
                </a:solidFill>
                <a:latin typeface="Arial"/>
              </a:rPr>
              <a:t>Company C</a:t>
            </a:r>
            <a:r>
              <a:rPr b="0" lang="en-US" sz="2000" spc="-1" strike="noStrike">
                <a:solidFill>
                  <a:srgbClr val="0f315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f315a"/>
                </a:solidFill>
                <a:latin typeface="Arial"/>
              </a:rPr>
              <a:t>Designed to meet their desired culture and</a:t>
            </a:r>
            <a:r>
              <a:rPr b="0" lang="en-US" sz="2000" spc="-1" strike="noStrike">
                <a:solidFill>
                  <a:srgbClr val="0f315a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f315a"/>
                </a:solidFill>
                <a:latin typeface="Arial"/>
              </a:rPr>
              <a:t>Competency   </a:t>
            </a:r>
            <a:r>
              <a:rPr b="0" lang="en-US" sz="1800" spc="-1" strike="noStrike">
                <a:solidFill>
                  <a:srgbClr val="0f315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f315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f315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f315a"/>
                </a:solidFill>
                <a:latin typeface="Arial"/>
              </a:rPr>
              <a:t>based framework to gain accreditation in Ce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315a"/>
                </a:solidFill>
                <a:latin typeface="Arial"/>
              </a:rPr>
              <a:t>                      “</a:t>
            </a:r>
            <a:r>
              <a:rPr b="0" lang="en-US" sz="1800" spc="-1" strike="noStrike">
                <a:solidFill>
                  <a:srgbClr val="0f315a"/>
                </a:solidFill>
                <a:latin typeface="Arial"/>
              </a:rPr>
              <a:t>Safety Leadership -Construction Industry”</a:t>
            </a:r>
            <a:r>
              <a:rPr b="0" lang="en-US" sz="1800" spc="-1" strike="noStrike">
                <a:solidFill>
                  <a:srgbClr val="0f315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f315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f315a"/>
                </a:solidFill>
                <a:latin typeface="Arial"/>
              </a:rPr>
              <a:t>Demonstrated success (Push – Pul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315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f315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f315a"/>
                </a:solidFill>
                <a:latin typeface="Arial"/>
              </a:rPr>
              <a:t>Train the Trainer conducted intern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315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f315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f315a"/>
                </a:solidFill>
                <a:latin typeface="Arial"/>
              </a:rPr>
              <a:t>ACT- Construction Training Scheme – Partner with MBA – </a:t>
            </a:r>
            <a:r>
              <a:rPr b="0" lang="en-US" sz="1800" spc="-1" strike="noStrike">
                <a:solidFill>
                  <a:srgbClr val="0f315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f315a"/>
                </a:solidFill>
                <a:latin typeface="Arial"/>
              </a:rPr>
              <a:t>accreditation –linked to the training lev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225360" y="5040360"/>
            <a:ext cx="1665360" cy="10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4621320" y="5370480"/>
            <a:ext cx="2057400" cy="1006560"/>
          </a:xfrm>
          <a:prstGeom prst="flowChartConnector">
            <a:avLst/>
          </a:prstGeom>
          <a:noFill/>
          <a:ln w="12600">
            <a:solidFill>
              <a:srgbClr val="0f31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f315a"/>
                </a:solidFill>
                <a:latin typeface="Arial"/>
              </a:rPr>
              <a:t>5. Leaders Role Model by Consist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42920" y="0"/>
            <a:ext cx="6686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f315a"/>
                </a:solidFill>
                <a:latin typeface="Arial"/>
              </a:rPr>
              <a:t>Principles of Changing the Way We 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337440" y="3473280"/>
            <a:ext cx="1998360" cy="1038600"/>
          </a:xfrm>
          <a:prstGeom prst="flowChartConnector">
            <a:avLst/>
          </a:prstGeom>
          <a:noFill/>
          <a:ln w="12600">
            <a:solidFill>
              <a:srgbClr val="0f31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f315a"/>
                </a:solidFill>
                <a:latin typeface="Arial"/>
              </a:rPr>
              <a:t>4. Show H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f315a"/>
                </a:solidFill>
                <a:latin typeface="Arial"/>
              </a:rPr>
              <a:t>‘</a:t>
            </a:r>
            <a:r>
              <a:rPr b="1" lang="en-US" sz="1400" spc="-1" strike="noStrike">
                <a:solidFill>
                  <a:srgbClr val="0f315a"/>
                </a:solidFill>
                <a:latin typeface="Arial"/>
              </a:rPr>
              <a:t>Program of Events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881600" y="1681560"/>
            <a:ext cx="2273400" cy="1038600"/>
          </a:xfrm>
          <a:prstGeom prst="flowChartConnector">
            <a:avLst/>
          </a:prstGeom>
          <a:noFill/>
          <a:ln w="12600">
            <a:solidFill>
              <a:srgbClr val="0f31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f315a"/>
                </a:solidFill>
                <a:latin typeface="Arial"/>
              </a:rPr>
              <a:t>3. </a:t>
            </a:r>
            <a:r>
              <a:rPr b="1" lang="en-US" sz="1400" spc="-1" strike="noStrike" u="sng">
                <a:solidFill>
                  <a:srgbClr val="0f315a"/>
                </a:solidFill>
                <a:uFillTx/>
                <a:latin typeface="Arial"/>
              </a:rPr>
              <a:t>What</a:t>
            </a:r>
            <a:r>
              <a:rPr b="1" lang="en-US" sz="1400" spc="-1" strike="noStrike">
                <a:solidFill>
                  <a:srgbClr val="0f315a"/>
                </a:solidFill>
                <a:latin typeface="Arial"/>
              </a:rPr>
              <a:t> is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f315a"/>
                </a:solidFill>
                <a:latin typeface="Arial"/>
              </a:rPr>
              <a:t>First Steps Eas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763640" y="1508400"/>
            <a:ext cx="2344680" cy="1038600"/>
          </a:xfrm>
          <a:prstGeom prst="flowChartConnector">
            <a:avLst/>
          </a:prstGeom>
          <a:noFill/>
          <a:ln w="12600">
            <a:solidFill>
              <a:srgbClr val="0f31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f315a"/>
                </a:solidFill>
                <a:latin typeface="Arial"/>
              </a:rPr>
              <a:t>2. Goal Des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f315a"/>
                </a:solidFill>
                <a:latin typeface="Arial"/>
              </a:rPr>
              <a:t>Vision/Purpose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f315a"/>
                </a:solidFill>
                <a:latin typeface="Arial"/>
              </a:rPr>
              <a:t>Valu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9240" y="2938680"/>
            <a:ext cx="2341440" cy="1038600"/>
          </a:xfrm>
          <a:prstGeom prst="flowChartConnector">
            <a:avLst/>
          </a:prstGeom>
          <a:noFill/>
          <a:ln w="12600">
            <a:solidFill>
              <a:srgbClr val="0f31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f315a"/>
                </a:solidFill>
                <a:latin typeface="Arial"/>
              </a:rPr>
              <a:t>1. Pressure/Need to Chan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f315a"/>
                </a:solidFill>
                <a:latin typeface="Arial"/>
              </a:rPr>
              <a:t>Wh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868400" y="5556600"/>
            <a:ext cx="1236600" cy="736920"/>
          </a:xfrm>
          <a:prstGeom prst="flowChartConnector">
            <a:avLst/>
          </a:prstGeom>
          <a:noFill/>
          <a:ln w="12600">
            <a:solidFill>
              <a:srgbClr val="0f31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f315a"/>
                </a:solidFill>
                <a:latin typeface="Arial"/>
              </a:rPr>
              <a:t>6. Quick W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4537800"/>
            <a:ext cx="1862280" cy="736920"/>
          </a:xfrm>
          <a:prstGeom prst="flowChartConnector">
            <a:avLst/>
          </a:prstGeom>
          <a:noFill/>
          <a:ln w="12600">
            <a:solidFill>
              <a:srgbClr val="0f31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f315a"/>
                </a:solidFill>
                <a:latin typeface="Arial"/>
              </a:rPr>
              <a:t>7. Enhance and Rew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172280" y="1738440"/>
            <a:ext cx="21463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buClr>
                <a:srgbClr val="000066"/>
              </a:buClr>
              <a:buSzPct val="180000"/>
              <a:buFont typeface="Arial"/>
              <a:buChar char="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f315a"/>
                </a:solidFill>
                <a:latin typeface="Arial"/>
              </a:rPr>
              <a:t>Skil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SzPct val="180000"/>
              <a:buFont typeface="Arial"/>
              <a:buChar char="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f315a"/>
                </a:solidFill>
                <a:latin typeface="Arial"/>
              </a:rPr>
              <a:t>Knowled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SzPct val="180000"/>
              <a:buFont typeface="Arial"/>
              <a:buChar char="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f315a"/>
                </a:solidFill>
                <a:latin typeface="Arial"/>
              </a:rPr>
              <a:t>Behaviou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SzPct val="180000"/>
              <a:buFont typeface="Arial"/>
              <a:buChar char="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f315a"/>
                </a:solidFill>
                <a:latin typeface="Arial"/>
              </a:rPr>
              <a:t>Cultural Indica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 flipV="1" rot="1026600">
            <a:off x="1166760" y="4775400"/>
            <a:ext cx="2579760" cy="1147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624" y="700"/>
                </a:moveTo>
                <a:arcTo wR="10800" hR="10800" stAng="-4155757" swAng="2339499"/>
                <a:lnTo>
                  <a:pt x="10800" y="10800"/>
                </a:lnTo>
                <a:close/>
              </a:path>
              <a:path fill="none" w="21600" h="21600">
                <a:moveTo>
                  <a:pt x="14624" y="700"/>
                </a:moveTo>
                <a:arcTo wR="10800" hR="10800" stAng="-4155757" swAng="2339499"/>
              </a:path>
            </a:pathLst>
          </a:custGeom>
          <a:noFill/>
          <a:ln w="28440">
            <a:solidFill>
              <a:srgbClr val="0033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 flipV="1">
            <a:off x="753480" y="3277440"/>
            <a:ext cx="355320" cy="1244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875" y="201"/>
                </a:moveTo>
                <a:arcTo wR="10800" hR="10800" stAng="-4735343" swAng="4735343"/>
                <a:lnTo>
                  <a:pt x="10800" y="10800"/>
                </a:lnTo>
                <a:close/>
              </a:path>
              <a:path fill="none" w="21600" h="21600">
                <a:moveTo>
                  <a:pt x="12875" y="201"/>
                </a:moveTo>
                <a:arcTo wR="10800" hR="10800" stAng="-4735343" swAng="4735343"/>
              </a:path>
            </a:pathLst>
          </a:custGeom>
          <a:noFill/>
          <a:ln w="28440">
            <a:solidFill>
              <a:srgbClr val="0033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 flipV="1" rot="3795600">
            <a:off x="1467000" y="1863720"/>
            <a:ext cx="730440" cy="1636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712" y="1182"/>
                </a:moveTo>
                <a:arcTo wR="10800" hR="10800" stAng="-3776774" swAng="4665371"/>
                <a:lnTo>
                  <a:pt x="10800" y="10800"/>
                </a:lnTo>
                <a:close/>
              </a:path>
              <a:path fill="none" w="21600" h="21600">
                <a:moveTo>
                  <a:pt x="15712" y="1182"/>
                </a:moveTo>
                <a:arcTo wR="10800" hR="10800" stAng="-3776774" swAng="4665371"/>
              </a:path>
            </a:pathLst>
          </a:custGeom>
          <a:noFill/>
          <a:ln w="28440">
            <a:solidFill>
              <a:srgbClr val="0033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rot="21363600">
            <a:off x="2299320" y="1612800"/>
            <a:ext cx="3021120" cy="866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743" y="41"/>
                </a:moveTo>
                <a:arcTo wR="10800" hR="10800" stAng="-5099349" swAng="3552248"/>
                <a:lnTo>
                  <a:pt x="10800" y="10800"/>
                </a:lnTo>
                <a:close/>
              </a:path>
              <a:path fill="none" w="21600" h="21600">
                <a:moveTo>
                  <a:pt x="11743" y="41"/>
                </a:moveTo>
                <a:arcTo wR="10800" hR="10800" stAng="-5099349" swAng="3552248"/>
              </a:path>
            </a:pathLst>
          </a:custGeom>
          <a:noFill/>
          <a:ln w="28440">
            <a:solidFill>
              <a:srgbClr val="0033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rot="20925600">
            <a:off x="6486120" y="2569320"/>
            <a:ext cx="815400" cy="1731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429" y="628"/>
                </a:moveTo>
                <a:arcTo wR="10800" hR="10800" stAng="-4222057" swAng="4742975"/>
                <a:lnTo>
                  <a:pt x="10800" y="10800"/>
                </a:lnTo>
                <a:close/>
              </a:path>
              <a:path fill="none" w="21600" h="21600">
                <a:moveTo>
                  <a:pt x="14429" y="628"/>
                </a:moveTo>
                <a:arcTo wR="10800" hR="10800" stAng="-4222057" swAng="4742975"/>
              </a:path>
            </a:pathLst>
          </a:custGeom>
          <a:noFill/>
          <a:ln w="28440">
            <a:solidFill>
              <a:srgbClr val="0033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rot="2142600">
            <a:off x="6080760" y="3869280"/>
            <a:ext cx="758520" cy="1863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481" y="4375"/>
                </a:moveTo>
                <a:arcTo wR="10800" hR="10800" stAng="-2190272" swAng="4532170"/>
                <a:lnTo>
                  <a:pt x="10800" y="10800"/>
                </a:lnTo>
                <a:close/>
              </a:path>
              <a:path fill="none" w="21600" h="21600">
                <a:moveTo>
                  <a:pt x="19481" y="4375"/>
                </a:moveTo>
                <a:arcTo wR="10800" hR="10800" stAng="-2190272" swAng="4532170"/>
              </a:path>
            </a:pathLst>
          </a:custGeom>
          <a:noFill/>
          <a:ln w="28440">
            <a:solidFill>
              <a:srgbClr val="0033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 flipV="1" rot="21433200">
            <a:off x="2455200" y="4983840"/>
            <a:ext cx="2969280" cy="118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657" y="826"/>
                </a:moveTo>
                <a:arcTo wR="10800" hR="10800" stAng="-6753414" swAng="3626085"/>
                <a:lnTo>
                  <a:pt x="10800" y="10800"/>
                </a:lnTo>
                <a:close/>
              </a:path>
              <a:path fill="none" w="21600" h="21600">
                <a:moveTo>
                  <a:pt x="6657" y="826"/>
                </a:moveTo>
                <a:arcTo wR="10800" hR="10800" stAng="-6753414" swAng="3626085"/>
              </a:path>
            </a:pathLst>
          </a:custGeom>
          <a:noFill/>
          <a:ln w="28440">
            <a:solidFill>
              <a:srgbClr val="0033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375000" y="3789360"/>
            <a:ext cx="1238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Continuous improvement</a:t>
            </a:r>
            <a:r>
              <a:rPr b="1" lang="en-US" sz="1400" spc="-1" strike="noStrike">
                <a:solidFill>
                  <a:srgbClr val="f6a01a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84" idx="0"/>
            <a:endCxn id="93" idx="1"/>
          </p:cNvCxnSpPr>
          <p:nvPr/>
        </p:nvCxnSpPr>
        <p:spPr>
          <a:xfrm flipH="1" flipV="1" rot="5400000">
            <a:off x="2098440" y="3276360"/>
            <a:ext cx="505440" cy="2048400"/>
          </a:xfrm>
          <a:prstGeom prst="curvedConnector2">
            <a:avLst/>
          </a:prstGeom>
          <a:ln w="22320">
            <a:solidFill>
              <a:srgbClr val="003300"/>
            </a:solidFill>
            <a:prstDash val="dash"/>
            <a:miter/>
            <a:tailEnd len="med" type="triangle" w="med"/>
          </a:ln>
        </p:spPr>
      </p:cxnSp>
      <p:cxnSp>
        <p:nvCxnSpPr>
          <p:cNvPr id="95" name=""/>
          <p:cNvCxnSpPr>
            <a:stCxn id="93" idx="3"/>
          </p:cNvCxnSpPr>
          <p:nvPr/>
        </p:nvCxnSpPr>
        <p:spPr>
          <a:xfrm flipV="1">
            <a:off x="4613400" y="2912400"/>
            <a:ext cx="962640" cy="1135800"/>
          </a:xfrm>
          <a:prstGeom prst="curvedConnector2">
            <a:avLst/>
          </a:prstGeom>
          <a:ln w="22320">
            <a:solidFill>
              <a:srgbClr val="003300"/>
            </a:solidFill>
            <a:prstDash val="dash"/>
            <a:miter/>
            <a:tailEnd len="med" type="triangle" w="med"/>
          </a:ln>
        </p:spPr>
      </p:cxnSp>
      <p:sp>
        <p:nvSpPr>
          <p:cNvPr id="96" name=""/>
          <p:cNvSpPr/>
          <p:nvPr/>
        </p:nvSpPr>
        <p:spPr>
          <a:xfrm>
            <a:off x="5407560" y="2695680"/>
            <a:ext cx="91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Next ste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185760"/>
            <a:ext cx="604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f315a"/>
                </a:solidFill>
                <a:latin typeface="Arial"/>
              </a:rPr>
              <a:t>Using the Research – where to nex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42920" y="1503360"/>
            <a:ext cx="146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a7c1"/>
                </a:solidFill>
                <a:latin typeface="Arial"/>
              </a:rPr>
              <a:t>Frame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409840" y="1563840"/>
            <a:ext cx="5803920" cy="417240"/>
          </a:xfrm>
          <a:prstGeom prst="flowChartAlternateProcess">
            <a:avLst/>
          </a:prstGeom>
          <a:solidFill>
            <a:srgbClr val="0f315a">
              <a:alpha val="70000"/>
            </a:srgbClr>
          </a:solidFill>
          <a:ln w="12600">
            <a:solidFill>
              <a:srgbClr val="0f31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velop training and behavioural strateg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409840" y="2271600"/>
            <a:ext cx="5803920" cy="696960"/>
          </a:xfrm>
          <a:prstGeom prst="flowChartAlternateProcess">
            <a:avLst/>
          </a:prstGeom>
          <a:solidFill>
            <a:srgbClr val="0f315a">
              <a:alpha val="70000"/>
            </a:srgbClr>
          </a:solidFill>
          <a:ln w="12600">
            <a:solidFill>
              <a:srgbClr val="0f31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dapt to suit the desired “safety culture” of your organis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409840" y="3286080"/>
            <a:ext cx="5803920" cy="401760"/>
          </a:xfrm>
          <a:prstGeom prst="flowChartAlternateProcess">
            <a:avLst/>
          </a:prstGeom>
          <a:solidFill>
            <a:srgbClr val="0f315a">
              <a:alpha val="70000"/>
            </a:srgbClr>
          </a:solidFill>
          <a:ln w="12600">
            <a:solidFill>
              <a:srgbClr val="0f31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t minimum standa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424240" y="4008600"/>
            <a:ext cx="5761080" cy="493560"/>
          </a:xfrm>
          <a:prstGeom prst="flowChartAlternateProcess">
            <a:avLst/>
          </a:prstGeom>
          <a:solidFill>
            <a:srgbClr val="0f315a">
              <a:alpha val="70000"/>
            </a:srgbClr>
          </a:solidFill>
          <a:ln w="12600">
            <a:solidFill>
              <a:srgbClr val="0f31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nduct ‘ Program of Events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409840" y="4778280"/>
            <a:ext cx="5803920" cy="706680"/>
          </a:xfrm>
          <a:prstGeom prst="flowChartAlternateProcess">
            <a:avLst/>
          </a:prstGeom>
          <a:solidFill>
            <a:srgbClr val="0f315a">
              <a:alpha val="70000"/>
            </a:srgbClr>
          </a:solidFill>
          <a:ln w="12600">
            <a:solidFill>
              <a:srgbClr val="0f31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uild and create with the current team, new ways of opera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409840" y="5823000"/>
            <a:ext cx="5803920" cy="401760"/>
          </a:xfrm>
          <a:prstGeom prst="flowChartAlternateProcess">
            <a:avLst/>
          </a:prstGeom>
          <a:solidFill>
            <a:srgbClr val="0f315a">
              <a:alpha val="70000"/>
            </a:srgbClr>
          </a:solidFill>
          <a:ln w="12600">
            <a:solidFill>
              <a:srgbClr val="0f31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ntinuous innov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110200" y="1989000"/>
            <a:ext cx="420480" cy="2746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f315a">
              <a:alpha val="54000"/>
            </a:srgbClr>
          </a:solidFill>
          <a:ln w="12600">
            <a:solidFill>
              <a:srgbClr val="0f31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24600" y="3019320"/>
            <a:ext cx="420480" cy="2746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f315a">
              <a:alpha val="54000"/>
            </a:srgbClr>
          </a:solidFill>
          <a:ln w="12600">
            <a:solidFill>
              <a:srgbClr val="0f31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124600" y="3730680"/>
            <a:ext cx="420480" cy="2746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f315a">
              <a:alpha val="54000"/>
            </a:srgbClr>
          </a:solidFill>
          <a:ln w="12600">
            <a:solidFill>
              <a:srgbClr val="0f31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138640" y="4498920"/>
            <a:ext cx="420840" cy="244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f315a">
              <a:alpha val="54000"/>
            </a:srgbClr>
          </a:solidFill>
          <a:ln w="12600">
            <a:solidFill>
              <a:srgbClr val="0f31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151600" y="5499000"/>
            <a:ext cx="420480" cy="3463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f315a">
              <a:alpha val="54000"/>
            </a:srgbClr>
          </a:solidFill>
          <a:ln w="12600">
            <a:solidFill>
              <a:srgbClr val="0f31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239760" y="5329080"/>
            <a:ext cx="1665360" cy="10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9780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6000" spc="-1" strike="noStrike">
                <a:solidFill>
                  <a:srgbClr val="0f315a"/>
                </a:solidFill>
                <a:latin typeface="Arial"/>
              </a:rPr>
              <a:t>“</a:t>
            </a:r>
            <a:r>
              <a:rPr b="1" lang="en-AU" sz="6000" spc="-1" strike="noStrike">
                <a:solidFill>
                  <a:srgbClr val="0f315a"/>
                </a:solidFill>
                <a:latin typeface="Arial"/>
              </a:rPr>
              <a:t>From Good to Great”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f315a"/>
                </a:solidFill>
                <a:latin typeface="Arial"/>
              </a:rPr>
              <a:t>IT CAN BE DON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f315a"/>
                </a:solidFill>
                <a:latin typeface="Arial"/>
              </a:rPr>
              <a:t>Louise Quin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f315a"/>
                </a:solidFill>
                <a:latin typeface="Arial"/>
              </a:rPr>
              <a:t>Marc Mclar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7205760" y="5372280"/>
            <a:ext cx="1665360" cy="101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9T04:13:01Z</dcterms:created>
  <dc:creator>Rebecca.evans</dc:creator>
  <dc:description/>
  <dc:language>en-US</dc:language>
  <cp:lastModifiedBy>kevin.obermuller</cp:lastModifiedBy>
  <dcterms:modified xsi:type="dcterms:W3CDTF">2006-09-21T13:01:18Z</dcterms:modified>
  <cp:revision>43</cp:revision>
  <dc:subject/>
  <dc:title>Slide 1</dc:title>
</cp:coreProperties>
</file>