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3.jpeg" ContentType="image/jpeg"/>
  <Override PartName="/ppt/media/image15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27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dt" idx="48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ftr" idx="49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 type="sldNum" idx="50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3CB5E5D-B91B-4410-93CC-C67311AEA1E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2E0C4BB-0BCD-4703-BF8F-99F3A8D7E99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FFCD337-378B-40B6-B0CF-08DED8B10BE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3A7FFF7-4947-4D01-A895-108D6A8002C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E271E5A-63A4-4B86-878F-C16BA69EA57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820F3AE-57A8-4EC6-BC6F-73F5E983A00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7551EB1-9838-42AD-9F65-5236604AED2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9D504D3-ED15-4B64-AEF5-99CBE060464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9097223-4681-44B0-9E3D-0E0147E05E0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6A30DBF-3BC4-45B1-BE69-88F51742BFD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F220D1D-EA95-4329-B0F0-65BD07452AD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47F4138-D12D-4F83-88DB-AF8FFCAA0E1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this slide when you have minim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blue text on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white text for the heading and blue text for the main body of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AE6BE6F-063A-45E1-99AF-8B21C67BBA8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white text for the heading and blue text for the main body of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white text for the heading and blue text for the main body of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white text for the heading and blue text for the main body of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white text for the heading and blue text for the main body of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white text for the heading and blue text for the main body of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white text for the heading and blue text for the main body of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white text for the heading and blue text for the main body of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white text for the heading and blue text for the main body of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C8E34EA-C296-4256-891F-8FF951CB904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DFA9728-9E95-4CE5-B72A-4F5E6D9D5DE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3A8075F-DCBB-4250-9947-ADCDF8C8A3D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FC09211-E227-44A6-83B3-18DAC9C9150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7C5A104-DFB6-4E43-AD04-A1CFD9488B3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67F-09A4-4DA6-A36D-98B463DC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04D-8416-4EDD-9928-6103D2B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371D38-1E90-4CC4-86B7-AA9D65BF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387323-047C-49C3-916F-9318C059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19BC1-1CFC-4E71-9287-B662B869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2C1E8E-0D6A-4475-9D7F-B571371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3490E1-1D64-4C94-ACB9-7278999C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5D964-71F5-4815-A62E-D0862453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8B48AE-F663-4892-8136-A48817A7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1FD9A7-A05D-4ABD-838F-CE702233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E0A939-CAB5-49FD-B4C1-A843C6B3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243AD6-2C27-4521-8E41-52BB1562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875-86B9-45EB-9826-D6FF111D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B7FBB1-1F26-46D3-8E4F-46953A59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B07CE-99AB-41B5-8002-64D56C6F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BF864-C409-48D7-ABE8-052277C2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B0EBF-E3BC-4266-9F4D-271D4229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39625D-573F-4725-B45C-4057D331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5A0DA-DE8D-4178-AF83-5201B369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DB68B-2166-4498-A287-6A371099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247F6-67CF-46F6-B565-1A2AEBB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1E3E94-1E62-4010-A404-49C3379E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03356-1DA8-48F3-9B54-B3C09679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8B7-D871-4D55-9C97-6025C637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58EA3-1DB2-40BA-A209-5994A9A1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E124CF-1000-4BBB-8A70-B2F0045E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8B18E7-A530-45FD-8D41-67C9C75E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8AFA5-1E18-4512-ABF4-CF1D31E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27445-8110-405C-BB6A-A8795A93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771E0C-5E37-444D-AECB-BEF3BE38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380268-F324-4B53-A387-DFB1AB9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D8DA4A-A0C5-4F6E-AC7B-92850CF8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1AC2D3-FB3D-4E1B-AECE-F03C6D24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817C53-771A-42FD-8A86-7965BCD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CFD-09E2-40D5-871C-106570CB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A346C1-E3AC-4366-BA05-50CAFC41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DF1065-9F31-4AFD-B8D3-6C794592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52CBDC-7567-4ACE-A5BC-2238FD9B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D06F8E-88E0-4EB0-9739-754C63F8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03072C-6E89-4799-A4DE-4B130DB0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7440AA-546C-44EA-8402-EC4D3A50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A89890-E906-4A08-8E74-E480CC46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929033-2B80-4337-8F14-CA63E115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02B369-7BF6-4EDE-A96C-8025D3B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2FAB4D-264A-4A76-8F28-75004C50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CE32-17E2-4FA9-801F-208EF7C1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AB3714-EC14-4C46-B7FE-E507C752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498D9C-5B27-423B-A8D9-4682D0EC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0A3800-C266-40F7-A5FE-AF518A97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ED0651-6500-4A12-84E1-6537DD58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D7CB41-FD08-4CCD-9C25-3B0848F7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D0A7A5-3831-4F05-979E-2737F436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E83C64-9683-418B-9A60-A962CE34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C040B5-BC16-4BCE-BAEA-A674E7FB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902E00-5932-4B2A-B164-FD0F7ED4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49B112-970D-4F0D-86D0-76381A95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64EF-8236-4405-BF6C-0A74C33E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1AB764-2F33-4CDD-BB14-EFD65EF1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3826B1-212D-4A37-888C-FE602813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9B242E-93AE-4089-B426-248C607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253393-4709-452F-B056-F7557BC9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C89174-A8C1-4166-BABB-DEF33B3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D7A26F-224A-474F-9646-4F631A3F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55281F-605A-40CE-816E-184A4C4A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ED507F-3F7D-4262-B67E-E2508BDA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57921B-7945-4824-944F-739D680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DDECDD-D1A0-438F-88A3-9BFC7D2C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30EE-2179-4438-9F1B-BE3AA9AD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E91954-F5EE-40C4-95FA-8040A5D9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1B1919-ED75-4BAC-A85A-CF3E9EEF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522AFD-868A-4ACA-BF76-AD9836D7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7456A7-A0EA-48B2-8325-AC0EE6C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2395A1-0BE8-44E4-9603-F63B3B0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950690-B6A6-45D3-8A67-16120426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59F93E-B460-4A67-A1F5-E284B1D3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AA1160-815F-46E3-9038-7BCE89C2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78DA75-78F5-4789-AEE8-C58A260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6FF90-EB0F-4114-A944-8280C3BE7A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52D6-CE77-488C-9C14-C5D797B4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5298F-D21D-4FEC-AF9F-588DB9A57B9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D8C69-A457-44DD-93EA-9408A716FC1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BE4AF-2B8F-40F7-92E4-A658D63D24E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19566-7118-49F4-A185-62D6D418ECF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B3997-5520-4DC1-B834-60D33B119E4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4328A-045E-4D00-BA02-1F2F357D549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4F4F4-0DBB-43D9-B6F6-ACD7C0FBE64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4555B-F0BE-48E3-A4A5-D8DD34F2FAD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EB938-71A1-458F-B2A8-309111082C5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6FD32-B516-4157-81EE-CA4D343455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E328-CEE5-47D4-B5DE-1E72A9D5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FA14D-AFDE-461B-A4E7-E3DA223E434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271844-514E-4E6C-AD49-87661D029E4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50CAF8-0400-42F2-B78C-C1DEAEBE389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5FDDC2-9223-4EE8-BE83-1F0307B2DBE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1BFB1F-2834-4DD7-AE19-CF41DCE15E3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A994E9-DE9D-43CD-88B9-91F6025C41E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E3651A-6CF6-468F-81E4-B8162965E6D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83255A-978D-45C0-8C7F-683B23FEF10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2CE46E-84B5-4291-BC9B-C7FCBF0FD71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D64311-EA48-499D-85BE-A7458DB19A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2F0B-DD07-4465-9354-943D7916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98E0D4-39B5-48A1-AB26-9A6CAE50FB6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963E70-F639-492B-A269-0E9C7EF468C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8C5F72-E37C-4AB3-BB3E-807595E6299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C6EF23-0B7D-43E4-AEB1-1C538489E85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D6E618-449B-4194-A224-D3FD18C83CE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9C4C80-3CC3-4A61-A4A4-1EDC1E15DFD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55FB40-5233-49C8-91A2-562AED91E52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EFB821-C370-47EF-A8C3-FF827F33B28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D0A17A-82A3-4B57-B045-38B35255547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14E99D-D3F4-4DF5-8C6E-719A20868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6A9-4373-4EF7-954E-62E4ED0A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3EBB-491C-4BBD-ADE3-094A703A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0AA7C6-F7B5-47DC-8C3B-88C73DDE921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7B41A8-A339-47EC-A003-18DA79145A9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EC93D1-1A68-44E2-A787-193E6CA9812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B0EACD-D787-41B9-A20D-25CC729925C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1008BD-515B-4672-A4AF-59875AA7D3B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3329C-35AB-4D7F-8398-8E459130ED0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6C64B-0325-4BB3-A470-2BEEE61CDA6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4C108-DD30-4CEB-982E-F8476F8DD2D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9C909-FEF7-4560-B369-A33BF3A8585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6BD3C-CDF0-47A0-943D-56586B67B8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2357-B285-47AC-9286-F7896ABA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50413-7F3E-4B36-9956-9D3A78B5D41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C50D1-B743-4E44-AC85-8D186D202F2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73BAA-F2C0-475E-8AE4-3E1BD1C5147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02F7E-3A08-46C3-BA30-1365C404DDF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897E3-DCF1-4B6C-B3A3-FD18AB7BE5E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EDB2E-48EB-4502-85A7-C299C1D7C18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67A3C-2EF2-4FC5-9CB6-D59BA91E4EC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7F117E-82FC-4DFA-9685-68D4320FCCC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173294-6C35-43C0-BC02-51E3AB1297A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4FADFC-8E23-4EDF-AE18-0228FE2E4B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8BEA-F062-4CD7-B563-7AC05B46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67040B-CDD1-43F3-95B8-87D16091A65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080EA6-9CF8-45E1-B2C5-0FA6034A7E5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A63A30-6DC9-4CEA-8DFD-96E833D6222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F1F9B4-0E3B-4AFF-9CB2-6E1BC881A4E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F9847A-9361-4E5F-A4EA-6172C47C17B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58179B-6F21-4E02-A20A-8C3F6C387B4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6BB417-6542-4BF2-93EC-157A5CC203B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9C8F758-726C-4BC5-815A-E0BFC34CAD8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5B29CB-F26A-411A-AB9A-42D14863F75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7C9830-7F80-4491-B81E-B9CB692F45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5F8A-0270-416A-BD1A-BD3B0D3B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A630BB-6E0A-4312-A6D6-A6DBDD83D2E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B3FE88-DEC8-42A7-9A52-72E5CC5E7E3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7C7C36-344D-4535-8D1F-5D148F5B719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4ABB04-DB13-4E25-9EBD-B0574CEC5D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E19DD4-F51A-4DA9-BED8-D9B69CC6D7B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E02352-E8D8-4ED8-AA1F-96B62A99CE2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CF2AE6-E266-4268-9B49-C74F9A74A77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F72BBD-B2EA-494A-B4C3-13E5F92059D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57360C-B4F6-4042-B682-62E868E0B1D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73832E-27FB-4C1C-BE64-4F0ABC8269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E1E5-694C-4025-8F68-F77D404E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ABA0CA-2088-446E-BF80-D76505E4851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C9AF8-8A5E-4C2E-9B06-10793C406D2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E51BA-E829-48B3-8E54-7AFE52E7F94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00B16-D15D-41ED-A85D-EA9294CEA5C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7938B-796F-4730-A236-94777EE33D5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674D0-E94D-4026-9D54-63E0EF2ECEA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032A8-15F2-4E6A-AAF1-690F34D8C3F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44433-6423-4E36-8858-4D39A841587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FE482-CB1F-40E8-80F2-95A6D679AC8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E23D7-D361-409D-A816-9FADBFEC9C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A241A-EA71-4717-AE26-AF64C058144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08B36-43AD-40DE-8751-8CB65BB1ED8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A6D28-6E30-4405-9F19-DB0F857F8C3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F7519-2157-4AD8-8DF4-6E61ADB2DC4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3C9E39B-5DDF-4E28-8E83-4D742AEF49C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065D54-FB0E-4C23-A187-7F78F5CC3A8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47D5F2-E35A-4A97-B28F-A87C1BE1663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E23278-461A-4285-BA95-1B152408EAA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8BAFF3-84A7-4E51-B272-BC69BCC3542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4B611E7-7DDD-489E-A862-32711128BAD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C607A6-048A-41F6-898F-84E2F6A4C6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C8F57-9381-48AB-A716-DBAD15F3FE5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411361-9442-4786-AA22-FB30738E69D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AFFAA3-6C50-4B86-9E23-25C47E2941E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0E5EE4-0C7E-46AB-B90C-0A73E2032B0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A47438-4C63-434A-903D-B0B6B4D821A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37DA20-F618-4BFF-BD3C-6D2D75D97A6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D1E27D-450F-41B9-AA5C-8FB987FADC0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BE53AA-BCAF-4C75-B415-54572FBB311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7CBD14-E7FB-43E3-8B1D-118510FB8FE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687254-42CE-4348-A4DE-3A8C83B03E7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8B35B3-F953-4AAF-94F6-CDEBF1A9D0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B75F7-0343-4494-9990-16072AAD061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3CADFD-AE86-44E7-9D2A-62831E72C51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472D7E-A8F5-430D-B60C-1D1FA5E22AE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9A4BD0-4E98-482D-8F56-AA5AAF57E14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BBA6FC-8FD1-4EEE-AD31-485F596E918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67AD99-019E-4A44-BA50-9996518ED51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EC2F6A-7524-4A5C-9C59-1A4D11D247F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A2ECFA-1C17-4BBA-9113-9A080C96AB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05C5E4-3218-4848-8B60-8959BE855C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22E2B-D03A-4281-8669-24D2301D8E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E97-2B2C-4065-ADD9-ABD8EBB3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8F379-0341-4336-9001-A290C180FB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9C5C7-D50C-4EA8-BC23-4190E355A8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91474-75C9-4480-9160-63C1A3A3A9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067C0-7C3C-4A28-B0B5-82C1783F1B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0A2D3-C189-4470-B24E-F5E59C0749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3D93B6-05B0-47F9-994A-1B226B762E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1AD2E-664B-4392-9E61-1B7AADDB4F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73E46-9C5B-4AD5-B7FE-E16D76A1F4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FDD0F-0836-4BF4-9841-0935332725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32E20-681E-4E79-9893-0C206BB8A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958-CD5B-40DE-B04F-26107E04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E0197-9E20-4D9B-B0E3-E6066796CD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C4599-4E53-4166-933B-6A8B171E87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49AF8-34ED-45FD-BF34-1B1557F847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5A0BB-4F93-4B31-B709-16A539DC68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64182-FD20-4AE2-BFF6-8D873D5788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C8C5C-5463-4941-943F-371514352E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DDF29-A9C1-406B-A666-24A8DD338E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A5535-98A4-47DF-BE4D-EEEE4582A6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51095-4DB0-470D-9190-9DA67D961F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07CF5-DFE2-4F67-BAE1-D43E7B0A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909-30B1-419D-BE24-1DD04DBC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91BE4-D2CF-4527-85DB-EA65C1B1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69B10-A8AF-422A-BCC7-AC0F50ED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A8533-308B-4532-ABC5-17EE5964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1F74D-31A6-4CA7-B629-4F974EF9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0BD6D-DCCE-40F8-9604-E2AA8BE1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0A9E6-4811-46D1-B047-4FEE3FD1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7FF63-9BDE-4BE8-BF22-61A2751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08815-6211-4101-AD56-ACE4C630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4C7F9-9784-44C2-99EB-ACBA8F44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2E9DC-EDA1-43CD-AA02-83E15074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2A3-4228-44EB-A5BA-979967A7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C9DAF-A88B-452D-82AF-7AF58FD2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014F2-2224-4773-BFC8-9521AF65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8492C-11ED-45CD-8456-73F79DC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62972-D731-465E-A5A3-DEA45FAA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4A97A-A985-4232-863E-DB90D154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A08C5-FFF7-4563-A033-9E681D78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AE443-0FDD-4BEF-B231-F371C1F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944E7-2863-4D0C-9DAC-433E1E1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8A30A-C593-4843-ACE7-61B5D596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BC364-8FA0-4455-946F-1695C429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837-001F-4659-A394-4B250DF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348D7-1FB1-47EE-8C40-66BF21CA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1E9CF-641A-4FF9-BF3D-3626016B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8AEA5-1560-4DD8-8C3E-623E1A70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24C2D-FBEA-4CCD-AC25-5DED95E7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11331-61C8-46FC-94B4-59871C8E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0671F-00A7-4920-ADAA-537F7FF7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8E12A-6EE9-494C-A232-F8F9C13B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C7598-3D09-4A36-83C4-41EA0F70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E2155-5DD6-4F97-99DD-FF8D048F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F70790-17A8-4B50-B1CB-EDC61900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514-4906-4586-8980-CF2E3B25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647D0-C0D0-4D65-B23E-7AA408A5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981A8-2612-4CE3-AC4D-1C016761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7C639-CC68-405D-B47A-4A709C15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90437-8F66-4CEB-BED6-C8624D8C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3DFA8-D5FA-460D-A31F-F9EA4952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C7F56-B623-401B-9045-DC8218E7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F6844-3C28-4C6F-9E92-BFA0769F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889C0-52EA-4B6E-AC29-E8E2FC40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7609F-B5D2-44BD-8A7D-A1A266F0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E3875-0DDF-4DEA-95A9-77922E4B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A6D-3DC7-417F-BA66-40EAA27A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23640" y="1900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BEACA-4B87-4A6F-9495-454AA025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D7D2B-3982-44C4-B8F1-0434CE8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F56EE-9557-4708-BDE2-83658E9A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E600E5-5D28-42FA-B273-09C45B7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618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D41E4-F3BF-4552-9546-F402A154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180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18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180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CCB64-4690-4868-9903-794DA2B9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705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788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618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705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788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8ED23-651A-40D6-86D4-53EB6757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0DC694-C555-4440-8E04-1F9F0D98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CFB024-E8FC-4930-9B48-E2AB2F84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FEA71C-0C4F-4E14-B785-C1D09F37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FFE0-2393-49DF-8A4A-6DD169C09C1F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4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5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6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39E-821D-4E05-82E0-63873209644B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7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8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9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AD6A-C896-46A6-9A13-71AF0274F620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0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1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2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1FCF-08C8-45B7-BC3E-D3D4448A7D97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3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4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5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64BA-206A-493C-9D2C-0534D6AEDA19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8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4888-B248-4192-BF67-5F2CB5CC58C7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39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9B38-8C5F-4C45-951B-F5B74FC2497D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Num" idx="40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FD51-0988-4965-AA27-F8A6AC6AC458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41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B17B-654B-49CE-95D7-EF8DE278BF31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Num" idx="42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BB54-B4CD-424B-8BAC-BBC3D9640BF0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sldNum" idx="43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EDD8-65F8-488A-B6C8-399A8F13B29A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41EB-F0A7-4E82-9ACC-E2D8307280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sldNum" idx="44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3563-9ED8-4D73-9386-77E94A087826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45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107-9F23-48C1-BC1D-BC1E3F0D80F8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sldNum" idx="46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64DC-BB96-4ACD-9381-E9E619C12DD9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47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550-5DA6-4E1E-9F62-5BFE5E226856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92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73b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BA03-F06B-48E4-8B2C-B1CE80F553CC}" type="slidenum"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Rectangl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4788000" y="404640"/>
            <a:ext cx="40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8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76E0-443B-482E-A6BD-E865F2DA5DAF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1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AD9C-7154-4C03-899A-95AB9090DA9A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2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3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4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7959-550C-427D-9322-E606801DFF6F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6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7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ACF6-8005-4CAB-B676-065262B2DB7B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8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9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0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46DC-426A-44CA-AA97-FC5EF758121B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716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1"/>
          </p:nvPr>
        </p:nvSpPr>
        <p:spPr>
          <a:xfrm>
            <a:off x="2133360" y="6190920"/>
            <a:ext cx="152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2"/>
          </p:nvPr>
        </p:nvSpPr>
        <p:spPr>
          <a:xfrm>
            <a:off x="3676680" y="6134040"/>
            <a:ext cx="333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3"/>
          </p:nvPr>
        </p:nvSpPr>
        <p:spPr>
          <a:xfrm>
            <a:off x="7200720" y="6171840"/>
            <a:ext cx="1485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B0BB-BBBF-4CF1-B22B-645988D5B98A}" type="slidenum"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csiro.au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transfield.com.au/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hyperlink" Target="http://www.fma.com.au/" TargetMode="External"/><Relationship Id="rId9" Type="http://schemas.openxmlformats.org/officeDocument/2006/relationships/image" Target="../media/image11.png"/><Relationship Id="rId10" Type="http://schemas.openxmlformats.org/officeDocument/2006/relationships/hyperlink" Target="http://www.qld.gov.au/" TargetMode="External"/><Relationship Id="rId11" Type="http://schemas.openxmlformats.org/officeDocument/2006/relationships/image" Target="../media/image12.png"/><Relationship Id="rId12" Type="http://schemas.openxmlformats.org/officeDocument/2006/relationships/hyperlink" Target="http://www.sydneyoperahouse.com/" TargetMode="External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4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Rectangle 7171" descr=""/>
          <p:cNvPicPr/>
          <p:nvPr/>
        </p:nvPicPr>
        <p:blipFill>
          <a:blip r:embed="rId1"/>
          <a:stretch/>
        </p:blipFill>
        <p:spPr>
          <a:xfrm>
            <a:off x="933480" y="1523880"/>
            <a:ext cx="7210440" cy="449604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Research Objective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24000" y="1466640"/>
            <a:ext cx="849600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601"/>
              </a:spcAft>
              <a:buClr>
                <a:srgbClr val="007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8"/>
                </a:solidFill>
                <a:latin typeface="Arial"/>
              </a:rPr>
              <a:t>Investigate best / good practice </a:t>
            </a:r>
            <a:r>
              <a:rPr b="0" lang="en-US" sz="2800" spc="-1" strike="noStrike">
                <a:solidFill>
                  <a:srgbClr val="0072c8"/>
                </a:solidFill>
                <a:latin typeface="Arial"/>
              </a:rPr>
              <a:t>across 3 research streams: digital modelling, procurement and bench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spcAft>
                <a:spcPts val="601"/>
              </a:spcAft>
              <a:buClr>
                <a:srgbClr val="007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8"/>
                </a:solidFill>
                <a:latin typeface="Arial"/>
              </a:rPr>
              <a:t>Develop a conceptual framework </a:t>
            </a:r>
            <a:r>
              <a:rPr b="0" lang="en-US" sz="2800" spc="-1" strike="noStrike">
                <a:solidFill>
                  <a:srgbClr val="0072c8"/>
                </a:solidFill>
                <a:latin typeface="Arial"/>
              </a:rPr>
              <a:t>for future integrated FM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spcAft>
                <a:spcPts val="601"/>
              </a:spcAft>
              <a:buClr>
                <a:srgbClr val="007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8"/>
                </a:solidFill>
                <a:latin typeface="Arial"/>
              </a:rPr>
              <a:t>Deliver guidelines </a:t>
            </a:r>
            <a:r>
              <a:rPr b="0" lang="en-US" sz="2800" spc="-1" strike="noStrike">
                <a:solidFill>
                  <a:srgbClr val="0072c8"/>
                </a:solidFill>
                <a:latin typeface="Arial"/>
              </a:rPr>
              <a:t>in support of Sydney Opera House’s Total Asset Manage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spcAft>
                <a:spcPts val="601"/>
              </a:spcAft>
              <a:buClr>
                <a:srgbClr val="007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2c8"/>
                </a:solidFill>
                <a:latin typeface="Arial"/>
              </a:rPr>
              <a:t>Demonstrate</a:t>
            </a:r>
            <a:r>
              <a:rPr b="0" lang="en-US" sz="2800" spc="-1" strike="noStrike">
                <a:solidFill>
                  <a:srgbClr val="0072c8"/>
                </a:solidFill>
                <a:latin typeface="Arial"/>
              </a:rPr>
              <a:t> against the goal of the                        FM Action Agenda and identify best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37890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Digital Modell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Box 38914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8915"/>
          <p:cNvSpPr/>
          <p:nvPr/>
        </p:nvSpPr>
        <p:spPr>
          <a:xfrm>
            <a:off x="349200" y="1374840"/>
            <a:ext cx="306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c8"/>
                </a:solidFill>
                <a:latin typeface="Arial"/>
              </a:rPr>
              <a:t>EXIS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Rectangle 38916" descr=""/>
          <p:cNvPicPr/>
          <p:nvPr/>
        </p:nvPicPr>
        <p:blipFill>
          <a:blip r:embed="rId1"/>
          <a:stretch/>
        </p:blipFill>
        <p:spPr>
          <a:xfrm>
            <a:off x="611280" y="2041560"/>
            <a:ext cx="7242120" cy="389088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Digital Modell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Box 39938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39939"/>
          <p:cNvSpPr/>
          <p:nvPr/>
        </p:nvSpPr>
        <p:spPr>
          <a:xfrm>
            <a:off x="349200" y="1374840"/>
            <a:ext cx="306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c8"/>
                </a:solidFill>
                <a:latin typeface="Arial"/>
              </a:rPr>
              <a:t>Building Information Model (B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705640" y="2514240"/>
            <a:ext cx="2962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c8"/>
                </a:solidFill>
                <a:latin typeface="Arial"/>
              </a:rPr>
              <a:t>Digital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c8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72c8"/>
                </a:solidFill>
                <a:latin typeface="Arial"/>
              </a:rPr>
              <a:t>Acknowledgement    </a:t>
            </a:r>
            <a:r>
              <a:rPr b="0" lang="en-US" sz="1800" spc="-1" strike="noStrike">
                <a:solidFill>
                  <a:srgbClr val="0072c8"/>
                </a:solidFill>
                <a:latin typeface="Arial"/>
              </a:rPr>
              <a:t>        – Arup and JPW for the 3D digital building model of Opera Thea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c8"/>
                </a:solidFill>
                <a:latin typeface="Arial"/>
              </a:rPr>
              <a:t>F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c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72c8"/>
                </a:solidFill>
                <a:latin typeface="Arial"/>
              </a:rPr>
              <a:t>Incorporate 3D object locations, service levels, maintenance and cos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Rectangle 39941" descr=""/>
          <p:cNvPicPr/>
          <p:nvPr/>
        </p:nvPicPr>
        <p:blipFill>
          <a:blip r:embed="rId1"/>
          <a:stretch/>
        </p:blipFill>
        <p:spPr>
          <a:xfrm>
            <a:off x="419040" y="2066760"/>
            <a:ext cx="5486400" cy="38196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Digital Modell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Box 102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8" name="Object 7"/>
          <p:cNvGraphicFramePr/>
          <p:nvPr/>
        </p:nvGraphicFramePr>
        <p:xfrm>
          <a:off x="728640" y="1511280"/>
          <a:ext cx="739620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1511280"/>
                    <a:ext cx="73962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0" name="" descr=""/>
          <p:cNvPicPr/>
          <p:nvPr/>
        </p:nvPicPr>
        <p:blipFill>
          <a:blip r:embed="rId3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ervices Procuremen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Box 2050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3" name="Object 5"/>
          <p:cNvGraphicFramePr/>
          <p:nvPr/>
        </p:nvGraphicFramePr>
        <p:xfrm>
          <a:off x="511200" y="1351080"/>
          <a:ext cx="772164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1351080"/>
                    <a:ext cx="77216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5" name="" descr=""/>
          <p:cNvPicPr/>
          <p:nvPr/>
        </p:nvPicPr>
        <p:blipFill>
          <a:blip r:embed="rId3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ervices Procuremen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Box 3074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8" name="Object 5"/>
          <p:cNvGraphicFramePr/>
          <p:nvPr/>
        </p:nvGraphicFramePr>
        <p:xfrm>
          <a:off x="779400" y="1362240"/>
          <a:ext cx="759132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362240"/>
                    <a:ext cx="759132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61800" y="21333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2c8"/>
                </a:solidFill>
                <a:latin typeface="Arial"/>
              </a:rPr>
              <a:t>The benchmarking focuses on the maintenance of the iconic facilities with similar functionalities and / or performance art cen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2c8"/>
              </a:buClr>
              <a:buSzPct val="50000"/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2c8"/>
                </a:solidFill>
                <a:latin typeface="Arial"/>
              </a:rPr>
              <a:t>inter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2c8"/>
              </a:buClr>
              <a:buSzPct val="50000"/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2c8"/>
                </a:solidFill>
                <a:latin typeface="Arial"/>
              </a:rPr>
              <a:t>external</a:t>
            </a:r>
            <a:r>
              <a:rPr b="0" lang="en-US" sz="2500" spc="-1" strike="noStrike">
                <a:solidFill>
                  <a:srgbClr val="0072c8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72c8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72c8"/>
                </a:solidFill>
                <a:latin typeface="Arial"/>
              </a:rPr>
              <a:t>KPI’s</a:t>
            </a:r>
            <a:r>
              <a:rPr b="0" lang="en-US" sz="2500" spc="-1" strike="noStrike">
                <a:solidFill>
                  <a:srgbClr val="0072c8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72c8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c186e6"/>
                </a:solidFill>
                <a:latin typeface="Arial"/>
              </a:rPr>
              <a:t>FM Perform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2c8"/>
              </a:buClr>
              <a:buSzPct val="50000"/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2c8"/>
                </a:solidFill>
                <a:latin typeface="Arial"/>
              </a:rPr>
              <a:t>funct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2c8"/>
                </a:solidFill>
                <a:latin typeface="Arial"/>
              </a:rPr>
              <a:t>Identify ‘best practice’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40962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traight Connector 40963"/>
          <p:cNvSpPr/>
          <p:nvPr/>
        </p:nvSpPr>
        <p:spPr>
          <a:xfrm>
            <a:off x="2838600" y="4191120"/>
            <a:ext cx="9046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traight Connector 40964"/>
          <p:cNvSpPr/>
          <p:nvPr/>
        </p:nvSpPr>
        <p:spPr>
          <a:xfrm flipV="1">
            <a:off x="2835360" y="4197240"/>
            <a:ext cx="876240" cy="419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traight Connector 40965"/>
          <p:cNvSpPr/>
          <p:nvPr/>
        </p:nvSpPr>
        <p:spPr>
          <a:xfrm>
            <a:off x="2841480" y="3746520"/>
            <a:ext cx="885960" cy="438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traight Connector 40966"/>
          <p:cNvSpPr/>
          <p:nvPr/>
        </p:nvSpPr>
        <p:spPr>
          <a:xfrm>
            <a:off x="4940280" y="4197240"/>
            <a:ext cx="9050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Box 4098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1" name="Object 5"/>
          <p:cNvGraphicFramePr/>
          <p:nvPr/>
        </p:nvGraphicFramePr>
        <p:xfrm>
          <a:off x="1065240" y="1523880"/>
          <a:ext cx="6897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23880"/>
                    <a:ext cx="6897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3" name="" descr=""/>
          <p:cNvPicPr/>
          <p:nvPr/>
        </p:nvPicPr>
        <p:blipFill>
          <a:blip r:embed="rId3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n integrated FM Approach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Box 5122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Object 5"/>
          <p:cNvGraphicFramePr/>
          <p:nvPr/>
        </p:nvGraphicFramePr>
        <p:xfrm>
          <a:off x="123840" y="1376280"/>
          <a:ext cx="902016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376280"/>
                    <a:ext cx="902016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8" name="" descr=""/>
          <p:cNvPicPr/>
          <p:nvPr/>
        </p:nvPicPr>
        <p:blipFill>
          <a:blip r:embed="rId3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69" name="Straight Arrow Connector 8"/>
          <p:cNvCxnSpPr/>
          <p:nvPr/>
        </p:nvCxnSpPr>
        <p:spPr>
          <a:xfrm>
            <a:off x="4452480" y="2189160"/>
            <a:ext cx="3960" cy="68976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</a:ln>
        </p:spPr>
      </p:cxn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tegrated FM Solutio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Object 7"/>
          <p:cNvGraphicFramePr/>
          <p:nvPr/>
        </p:nvGraphicFramePr>
        <p:xfrm>
          <a:off x="1041480" y="2682720"/>
          <a:ext cx="697068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682720"/>
                    <a:ext cx="69706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Box 5"/>
          <p:cNvSpPr/>
          <p:nvPr/>
        </p:nvSpPr>
        <p:spPr>
          <a:xfrm>
            <a:off x="2590920" y="1533600"/>
            <a:ext cx="3686040" cy="885960"/>
          </a:xfrm>
          <a:prstGeom prst="rect">
            <a:avLst/>
          </a:prstGeom>
          <a:solidFill>
            <a:srgbClr val="cdcd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FM Exemplar Proj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Sydney Opera H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3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04880" y="183492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AU" sz="4200" spc="-1" strike="noStrike">
                <a:solidFill>
                  <a:srgbClr val="2d73bf"/>
                </a:solidFill>
                <a:latin typeface="Arial"/>
              </a:rPr>
              <a:t>FM Exemplar Project: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742680" y="3646080"/>
            <a:ext cx="754380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</a:tabLst>
            </a:pPr>
            <a:r>
              <a:rPr b="0" lang="en-AU" sz="2300" spc="-1" strike="noStrike">
                <a:solidFill>
                  <a:srgbClr val="2d73bf"/>
                </a:solidFill>
                <a:latin typeface="Arial"/>
              </a:rPr>
              <a:t>John McCarthy – CRC for Construction Innov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</a:tabLst>
            </a:pPr>
            <a:r>
              <a:rPr b="0" lang="en-AU" sz="2300" spc="-1" strike="noStrike">
                <a:solidFill>
                  <a:srgbClr val="2d73bf"/>
                </a:solidFill>
                <a:latin typeface="Arial"/>
              </a:rPr>
              <a:t>Stephen Ballesty – FMA Australia, Rider Hu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</a:tabLst>
            </a:pPr>
            <a:r>
              <a:rPr b="0" lang="en-AU" sz="2300" spc="-1" strike="noStrike">
                <a:solidFill>
                  <a:srgbClr val="2d73bf"/>
                </a:solidFill>
                <a:latin typeface="Arial"/>
              </a:rPr>
              <a:t>George Spink – Transfield Ser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</a:tabLst>
            </a:pPr>
            <a:r>
              <a:rPr b="0" lang="en-AU" sz="2300" spc="-1" strike="noStrike">
                <a:solidFill>
                  <a:srgbClr val="2d73bf"/>
                </a:solidFill>
                <a:latin typeface="Arial"/>
              </a:rPr>
              <a:t>Paul Akhurst – Sydney Opera Ho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</a:tabLst>
            </a:pPr>
            <a:r>
              <a:rPr b="0" lang="en-AU" sz="2300" spc="-1" strike="noStrike">
                <a:solidFill>
                  <a:srgbClr val="2d73bf"/>
                </a:solidFill>
                <a:latin typeface="Arial"/>
              </a:rPr>
              <a:t>John Mitchell – CQ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3"/>
          <p:cNvSpPr/>
          <p:nvPr/>
        </p:nvSpPr>
        <p:spPr>
          <a:xfrm>
            <a:off x="657360" y="2362320"/>
            <a:ext cx="7772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1" lang="en-AU" sz="4200" spc="-1" strike="noStrike">
                <a:solidFill>
                  <a:srgbClr val="2d73bf"/>
                </a:solidFill>
                <a:latin typeface="Arial"/>
              </a:rPr>
              <a:t>Sydney Opera Hou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30723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ydney – 16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Novemb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4800600" y="152280"/>
            <a:ext cx="4191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435640" y="2205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55640" y="1628640"/>
            <a:ext cx="79930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2d73bf"/>
                </a:solidFill>
                <a:latin typeface="Arial"/>
              </a:rPr>
              <a:t>George Spink</a:t>
            </a:r>
            <a:br>
              <a:rPr sz="3000"/>
            </a:br>
            <a:r>
              <a:rPr b="0" lang="en-AU" sz="3000" spc="-1" strike="noStrike">
                <a:solidFill>
                  <a:srgbClr val="2d73bf"/>
                </a:solidFill>
                <a:latin typeface="Arial"/>
              </a:rPr>
              <a:t>Executive General Manager - FM</a:t>
            </a:r>
            <a:br>
              <a:rPr sz="3000"/>
            </a:br>
            <a:r>
              <a:rPr b="0" lang="en-AU" sz="3000" spc="-1" strike="noStrike">
                <a:solidFill>
                  <a:srgbClr val="2d73bf"/>
                </a:solidFill>
                <a:latin typeface="Arial"/>
              </a:rPr>
              <a:t>Transfield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2d73bf"/>
                </a:solidFill>
                <a:latin typeface="Arial"/>
              </a:rPr>
              <a:t>Outcomes from the FM Exemplar Project:</a:t>
            </a:r>
            <a:br>
              <a:rPr sz="3000"/>
            </a:br>
            <a:r>
              <a:rPr b="0" lang="en-AU" sz="3000" spc="-1" strike="noStrike">
                <a:solidFill>
                  <a:srgbClr val="2d73bf"/>
                </a:solidFill>
                <a:latin typeface="Arial"/>
              </a:rPr>
              <a:t>Sydney Opera Ho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2d73bf"/>
                </a:solidFill>
                <a:latin typeface="Arial"/>
              </a:rPr>
              <a:t>A Service Provider Persp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orge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55640" y="1844640"/>
            <a:ext cx="7416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Key learnings from each research str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Digital modell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Procurement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Integrating the FM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orge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Transfield</a:t>
            </a:r>
            <a:r>
              <a:rPr b="1" lang="en-AU" sz="6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68360" y="1844640"/>
            <a:ext cx="835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International provider of operations, maintenance,  asset and project manageme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Across a diverse range of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Leading provider to the FM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088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orge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Digital Modell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11280" y="1844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Data is “King” for FM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The need for a system to manage and link the various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Who provides the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Service providers role in the data puzz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orge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11280" y="1628640"/>
            <a:ext cx="7993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Meaningful CSF, KPIs versus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Linked to corporat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Identify suitable benchmarks – internal, external and functional for FM 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A need for an FM industry frame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096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orge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Procur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55640" y="1844640"/>
            <a:ext cx="741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Procurement outcome linked to corporat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Industry engagement and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Cultur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orge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39640" y="1844640"/>
            <a:ext cx="81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FM Plan must be aligned to Corporat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Data-information-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Digital Modelling to capture/store/mana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Monitor and benchmar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04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orge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55640" y="1557360"/>
            <a:ext cx="7632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Align FM plan to corporat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Data is “king” to facilitate good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Open system architecture (Interoper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Benchmarking – identify relevant CSF/K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d73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Outsourcing – actively engag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08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orge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4800600" y="152280"/>
            <a:ext cx="4191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435640" y="2205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55640" y="1628640"/>
            <a:ext cx="79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2d73bf"/>
                </a:solidFill>
                <a:latin typeface="Arial"/>
              </a:rPr>
              <a:t>Paul Akhur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Director,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Sydney Opera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AU" sz="3200" spc="-1" strike="noStrike">
                <a:solidFill>
                  <a:srgbClr val="2d73bf"/>
                </a:solidFill>
                <a:latin typeface="Arial"/>
              </a:rPr>
              <a:t>Sydney Opera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AU" sz="3200" spc="-1" strike="noStrike">
                <a:solidFill>
                  <a:srgbClr val="2d73bf"/>
                </a:solidFill>
                <a:latin typeface="Arial"/>
              </a:rPr>
              <a:t>An FM Exempl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114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17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ul Akh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00000" y="1844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All in the one build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781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1,500 perform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1,000 other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1,100,000 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4,500,000 vis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$85M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$21M FM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all in yea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60000" y="1523520"/>
            <a:ext cx="407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Commenced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Opened 19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Cost $1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Value $1.6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1,000+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7 performance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60 dressing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5 restaurants &amp;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124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27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ul Akh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Box 6"/>
          <p:cNvSpPr/>
          <p:nvPr/>
        </p:nvSpPr>
        <p:spPr>
          <a:xfrm>
            <a:off x="704880" y="1835280"/>
            <a:ext cx="77724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1" lang="en-AU" sz="3800" spc="-1" strike="noStrike">
                <a:solidFill>
                  <a:srgbClr val="0072c8"/>
                </a:solidFill>
                <a:latin typeface="Arial"/>
              </a:rPr>
              <a:t>John McCarth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</a:tabLst>
            </a:pPr>
            <a:r>
              <a:rPr b="1" lang="en-AU" sz="2800" spc="-1" strike="noStrike">
                <a:solidFill>
                  <a:srgbClr val="0072c8"/>
                </a:solidFill>
                <a:latin typeface="Arial"/>
              </a:rPr>
              <a:t>CRC for Construction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</a:tabLst>
            </a:pPr>
            <a:r>
              <a:rPr b="1" lang="en-AU" sz="2800" spc="-1" strike="noStrike">
                <a:solidFill>
                  <a:srgbClr val="0072c8"/>
                </a:solidFill>
                <a:latin typeface="Arial"/>
              </a:rPr>
              <a:t>Introduction and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31745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ohn McCa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900000" y="1844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131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2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An FM Exemplar?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Procurement – aligning FM and 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Benchmarking – how effective is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Digital Modelling – creating a Building 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Inform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36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ul Akh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00000" y="1844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140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Procurement Case Study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Finding the right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Matching corporate cultures – adding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A personal passion for SOH, the ic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Comprehensiv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Tailored corporate systems to SOH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Understood “inspiring experien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Team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45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ul Akh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900000" y="1844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149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0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Procurement Case Study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800" spc="-1" strike="noStrike">
                <a:solidFill>
                  <a:srgbClr val="2d73bf"/>
                </a:solidFill>
                <a:latin typeface="Arial"/>
              </a:rPr>
              <a:t>Understanding and explaining ou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Internal key performance indica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Draft RFT worksh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Site vis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Non-commercial criteria weigh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AU" sz="2400" spc="-1" strike="noStrike">
                <a:solidFill>
                  <a:srgbClr val="2d73bf"/>
                </a:solidFill>
                <a:latin typeface="Wingdings"/>
                <a:ea typeface="Wingdings"/>
              </a:rPr>
              <a:t></a:t>
            </a: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workshops  </a:t>
            </a:r>
            <a:r>
              <a:rPr b="0" lang="en-AU" sz="2400" spc="-1" strike="noStrike">
                <a:solidFill>
                  <a:srgbClr val="2d73bf"/>
                </a:solidFill>
                <a:latin typeface="Wingdings"/>
                <a:ea typeface="Wingdings"/>
              </a:rPr>
              <a:t></a:t>
            </a: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business  </a:t>
            </a:r>
            <a:r>
              <a:rPr b="0" lang="en-AU" sz="2400" spc="-1" strike="noStrike">
                <a:solidFill>
                  <a:srgbClr val="2d73bf"/>
                </a:solidFill>
                <a:latin typeface="Wingdings"/>
                <a:ea typeface="Wingdings"/>
              </a:rPr>
              <a:t></a:t>
            </a: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ul Akh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900000" y="1844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158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61440" y="1523520"/>
            <a:ext cx="4077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AU" sz="2400" spc="-1" strike="noStrike">
                <a:solidFill>
                  <a:srgbClr val="2d73bf"/>
                </a:solidFill>
                <a:latin typeface="Arial"/>
              </a:rPr>
              <a:t>Comparing i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Each is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Find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14 respond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Defi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Limited existing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Long-ter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64832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863960" y="1600200"/>
            <a:ext cx="4245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r>
              <a:rPr b="0" i="1" lang="en-AU" sz="2400" spc="-1" strike="noStrike">
                <a:solidFill>
                  <a:srgbClr val="2d73bf"/>
                </a:solidFill>
                <a:latin typeface="Arial"/>
              </a:rPr>
              <a:t>Key performanc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Condition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Fabric &amp; Cleanli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i="1" lang="en-AU" sz="2100" spc="-1" strike="noStrike">
                <a:solidFill>
                  <a:srgbClr val="2d73bf"/>
                </a:solidFill>
                <a:latin typeface="Arial"/>
              </a:rPr>
              <a:t>Valid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i="1" lang="en-AU" sz="2100" spc="-1" strike="noStrike">
                <a:solidFill>
                  <a:srgbClr val="2d73bf"/>
                </a:solidFill>
                <a:latin typeface="Arial"/>
              </a:rPr>
              <a:t>Extend to all asse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Energ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Per perform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Per patr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65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ul Akh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900000" y="1844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169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-36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Building Information Model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361440" y="1523520"/>
            <a:ext cx="4077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AU" sz="2400" spc="-1" strike="noStrike">
                <a:solidFill>
                  <a:srgbClr val="2d73bf"/>
                </a:solidFill>
                <a:latin typeface="Arial"/>
              </a:rPr>
              <a:t>Digital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Integrating facilities management data through a Building Information Model (B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r>
              <a:rPr b="0" i="1" lang="en-AU" sz="2400" spc="-1" strike="noStrike">
                <a:solidFill>
                  <a:srgbClr val="2d73bf"/>
                </a:solidFill>
                <a:latin typeface="Arial"/>
              </a:rPr>
              <a:t>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Asse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000" spc="-1" strike="noStrike">
                <a:solidFill>
                  <a:srgbClr val="2d73bf"/>
                </a:solidFill>
                <a:latin typeface="Arial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1800" spc="-1" strike="noStrike">
                <a:solidFill>
                  <a:srgbClr val="2d73bf"/>
                </a:solidFill>
                <a:latin typeface="Arial"/>
              </a:rPr>
              <a:t>Base building dra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1400" spc="-1" strike="noStrike">
                <a:solidFill>
                  <a:srgbClr val="2d73bf"/>
                </a:solidFill>
                <a:latin typeface="Arial"/>
              </a:rPr>
              <a:t>Maintenance sche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1400" spc="-1" strike="noStrike">
                <a:solidFill>
                  <a:srgbClr val="2d73bf"/>
                </a:solidFill>
                <a:latin typeface="Arial"/>
              </a:rPr>
              <a:t>Room data she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1200" spc="-1" strike="noStrike">
                <a:solidFill>
                  <a:srgbClr val="2d73bf"/>
                </a:solidFill>
                <a:latin typeface="Arial"/>
              </a:rPr>
              <a:t>Fina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1200" spc="-1" strike="noStrike">
                <a:solidFill>
                  <a:srgbClr val="2d73bf"/>
                </a:solidFill>
                <a:latin typeface="Arial"/>
              </a:rPr>
              <a:t>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1000" spc="-1" strike="noStrike">
                <a:solidFill>
                  <a:srgbClr val="2d73bf"/>
                </a:solidFill>
                <a:latin typeface="Arial"/>
              </a:rPr>
              <a:t>Asset management pl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900" spc="-1" strike="noStrike">
                <a:solidFill>
                  <a:srgbClr val="2d73bf"/>
                </a:solidFill>
                <a:latin typeface="Arial"/>
              </a:rPr>
              <a:t>Energy consump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800" spc="-1" strike="noStrike">
                <a:solidFill>
                  <a:srgbClr val="2d73bf"/>
                </a:solidFill>
                <a:latin typeface="Arial"/>
              </a:rPr>
              <a:t>Safe work pract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700" spc="-1" strike="noStrike">
                <a:solidFill>
                  <a:srgbClr val="2d73bf"/>
                </a:solidFill>
                <a:latin typeface="Arial"/>
              </a:rPr>
              <a:t>Stock leve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600" spc="-1" strike="noStrike">
                <a:solidFill>
                  <a:srgbClr val="2d73bf"/>
                </a:solidFill>
                <a:latin typeface="Arial"/>
              </a:rPr>
              <a:t>Key regi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500" spc="-1" strike="noStrike">
                <a:solidFill>
                  <a:srgbClr val="2d73bf"/>
                </a:solidFill>
                <a:latin typeface="Arial"/>
              </a:rPr>
              <a:t>Space manage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400" spc="-1" strike="noStrike">
                <a:solidFill>
                  <a:srgbClr val="2d73bf"/>
                </a:solidFill>
                <a:latin typeface="Arial"/>
              </a:rPr>
              <a:t>Condition indic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175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ul Akh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PlaceHolder 1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7812000" y="-27000"/>
            <a:ext cx="1368000" cy="1341000"/>
            <a:chOff x="7812000" y="-27000"/>
            <a:chExt cx="1368000" cy="1341000"/>
          </a:xfrm>
        </p:grpSpPr>
        <p:pic>
          <p:nvPicPr>
            <p:cNvPr id="1179" name="" descr=""/>
            <p:cNvPicPr/>
            <p:nvPr/>
          </p:nvPicPr>
          <p:blipFill>
            <a:blip r:embed="rId2"/>
            <a:stretch/>
          </p:blipFill>
          <p:spPr>
            <a:xfrm>
              <a:off x="7812000" y="-2700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"/>
            <p:cNvSpPr/>
            <p:nvPr/>
          </p:nvSpPr>
          <p:spPr>
            <a:xfrm>
              <a:off x="8578800" y="403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36360" y="1341360"/>
            <a:ext cx="9144000" cy="5507280"/>
            <a:chOff x="36360" y="1341360"/>
            <a:chExt cx="9144000" cy="5507280"/>
          </a:xfrm>
        </p:grpSpPr>
        <p:graphicFrame>
          <p:nvGraphicFramePr>
            <p:cNvPr id="1182" name=""/>
            <p:cNvGraphicFramePr/>
            <p:nvPr/>
          </p:nvGraphicFramePr>
          <p:xfrm>
            <a:off x="36360" y="1341360"/>
            <a:ext cx="9144000" cy="550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360" y="1341360"/>
                      <a:ext cx="9144000" cy="550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4" name=""/>
            <p:cNvSpPr/>
            <p:nvPr/>
          </p:nvSpPr>
          <p:spPr>
            <a:xfrm>
              <a:off x="2779560" y="2169720"/>
              <a:ext cx="1332000" cy="445320"/>
            </a:xfrm>
            <a:prstGeom prst="wedgeRoundRectCallout">
              <a:avLst>
                <a:gd name="adj1" fmla="val 59175"/>
                <a:gd name="adj2" fmla="val 177791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Ro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485800" y="4921920"/>
              <a:ext cx="1332000" cy="445320"/>
            </a:xfrm>
            <a:prstGeom prst="wedgeRoundRectCallout">
              <a:avLst>
                <a:gd name="adj1" fmla="val 94694"/>
                <a:gd name="adj2" fmla="val -123064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Fl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770440" y="5216760"/>
              <a:ext cx="1332000" cy="445320"/>
            </a:xfrm>
            <a:prstGeom prst="wedgeRoundRectCallout">
              <a:avLst>
                <a:gd name="adj1" fmla="val 75504"/>
                <a:gd name="adj2" fmla="val -64611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Colum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273560" y="5186160"/>
              <a:ext cx="1331640" cy="445320"/>
            </a:xfrm>
            <a:prstGeom prst="wedgeRoundRectCallout">
              <a:avLst>
                <a:gd name="adj1" fmla="val -12337"/>
                <a:gd name="adj2" fmla="val -236245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St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90480" y="1518480"/>
              <a:ext cx="6516720" cy="45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Times New Roman"/>
                </a:rPr>
                <a:t>Small section of the S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53920" y="1588680"/>
              <a:ext cx="1332000" cy="445320"/>
            </a:xfrm>
            <a:prstGeom prst="wedgeRoundRectCallout">
              <a:avLst>
                <a:gd name="adj1" fmla="val -72050"/>
                <a:gd name="adj2" fmla="val -62319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Z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96760" y="2497680"/>
              <a:ext cx="1332000" cy="445320"/>
            </a:xfrm>
            <a:prstGeom prst="wedgeRoundRectCallout">
              <a:avLst>
                <a:gd name="adj1" fmla="val -68712"/>
                <a:gd name="adj2" fmla="val -9355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Ro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PlaceHolder 2"/>
          <p:cNvSpPr>
            <a:spLocks noGrp="1"/>
          </p:cNvSpPr>
          <p:nvPr>
            <p:ph type="title"/>
          </p:nvPr>
        </p:nvSpPr>
        <p:spPr>
          <a:xfrm>
            <a:off x="-36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Building Information Model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900000" y="1844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195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-36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Digital Modell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64832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2d73bf"/>
                </a:solidFill>
                <a:latin typeface="Arial"/>
                <a:ea typeface="Arial"/>
              </a:rPr>
              <a:t>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  <a:ea typeface="Arial"/>
              </a:rPr>
              <a:t>Documentation &amp; dat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  <a:ea typeface="Arial"/>
              </a:rPr>
              <a:t>Surve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  <a:ea typeface="Arial"/>
              </a:rPr>
              <a:t>Data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5576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r>
              <a:rPr b="0" i="1" lang="en-AU" sz="2400" spc="-1" strike="noStrike">
                <a:solidFill>
                  <a:srgbClr val="2d73bf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Retrospectiv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Data consist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Software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201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ul Akh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900000" y="1844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205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An FM Exemplar?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Open to networking and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Procurement is im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Are service providers read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KPI’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No readily available comparis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400" spc="-1" strike="noStrike">
                <a:solidFill>
                  <a:srgbClr val="2d73bf"/>
                </a:solidFill>
                <a:latin typeface="Arial"/>
              </a:rPr>
              <a:t>Digital Modelling foundations vali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AU" sz="2100" spc="-1" strike="noStrike">
                <a:solidFill>
                  <a:srgbClr val="2d73bf"/>
                </a:solidFill>
                <a:latin typeface="Arial"/>
              </a:rPr>
              <a:t>Are project managers, designers and builders read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AU" sz="2400" spc="-1" strike="noStrike" u="sng">
                <a:solidFill>
                  <a:srgbClr val="2d73bf"/>
                </a:solidFill>
                <a:uFillTx/>
                <a:latin typeface="Arial"/>
              </a:rPr>
              <a:t>SOH, FM Exemplar? a continuous imp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  <p:sp>
        <p:nvSpPr>
          <p:cNvPr id="1210" name="TextBox 614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ul Akh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900000" y="1844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7812000" y="0"/>
            <a:ext cx="1368000" cy="1341000"/>
            <a:chOff x="7812000" y="0"/>
            <a:chExt cx="1368000" cy="1341000"/>
          </a:xfrm>
        </p:grpSpPr>
        <p:pic>
          <p:nvPicPr>
            <p:cNvPr id="1214" name="" descr=""/>
            <p:cNvPicPr/>
            <p:nvPr/>
          </p:nvPicPr>
          <p:blipFill>
            <a:blip r:embed="rId1"/>
            <a:stretch/>
          </p:blipFill>
          <p:spPr>
            <a:xfrm>
              <a:off x="7812000" y="0"/>
              <a:ext cx="136800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>
              <a:off x="8578800" y="430560"/>
              <a:ext cx="547560" cy="10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6" name="" descr=""/>
          <p:cNvPicPr/>
          <p:nvPr/>
        </p:nvPicPr>
        <p:blipFill>
          <a:blip r:embed="rId2"/>
          <a:stretch/>
        </p:blipFill>
        <p:spPr>
          <a:xfrm>
            <a:off x="971640" y="1378080"/>
            <a:ext cx="7451640" cy="4138560"/>
          </a:xfrm>
          <a:prstGeom prst="rect">
            <a:avLst/>
          </a:prstGeom>
          <a:ln w="0">
            <a:noFill/>
          </a:ln>
        </p:spPr>
      </p:pic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3400" spc="-1" strike="noStrike">
                <a:solidFill>
                  <a:srgbClr val="ffffff"/>
                </a:solidFill>
                <a:latin typeface="Palatino Linotype"/>
              </a:rPr>
              <a:t>Sydney Opera House </a:t>
            </a:r>
            <a:br>
              <a:rPr sz="3400"/>
            </a:br>
            <a:r>
              <a:rPr b="0" lang="en-AU" sz="3400" spc="-1" strike="noStrike">
                <a:solidFill>
                  <a:srgbClr val="ffffff"/>
                </a:solidFill>
                <a:latin typeface="Palatino Linotype"/>
              </a:rPr>
              <a:t>FM Exemplar Projec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73200" y="575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3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Straight Connector 58"/>
          <p:cNvSpPr/>
          <p:nvPr/>
        </p:nvSpPr>
        <p:spPr>
          <a:xfrm flipV="1">
            <a:off x="4552920" y="5732280"/>
            <a:ext cx="3240" cy="222120"/>
          </a:xfrm>
          <a:prstGeom prst="line">
            <a:avLst/>
          </a:prstGeom>
          <a:ln cap="rnd" w="158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57"/>
          <p:cNvSpPr/>
          <p:nvPr/>
        </p:nvSpPr>
        <p:spPr>
          <a:xfrm flipV="1">
            <a:off x="6543720" y="5732280"/>
            <a:ext cx="3240" cy="222120"/>
          </a:xfrm>
          <a:prstGeom prst="line">
            <a:avLst/>
          </a:prstGeom>
          <a:ln cap="rnd" w="158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52"/>
          <p:cNvSpPr/>
          <p:nvPr/>
        </p:nvSpPr>
        <p:spPr>
          <a:xfrm flipV="1">
            <a:off x="2448000" y="5732280"/>
            <a:ext cx="3240" cy="222120"/>
          </a:xfrm>
          <a:prstGeom prst="line">
            <a:avLst/>
          </a:prstGeom>
          <a:ln cap="rnd" w="158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Box 32772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ohn McCa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9700"/>
          <p:cNvSpPr/>
          <p:nvPr/>
        </p:nvSpPr>
        <p:spPr>
          <a:xfrm>
            <a:off x="3279600" y="4584600"/>
            <a:ext cx="2533680" cy="274680"/>
          </a:xfrm>
          <a:prstGeom prst="rect">
            <a:avLst/>
          </a:prstGeom>
          <a:solidFill>
            <a:srgbClr val="b7ffb7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FM Exempla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9702"/>
          <p:cNvSpPr/>
          <p:nvPr/>
        </p:nvSpPr>
        <p:spPr>
          <a:xfrm>
            <a:off x="5746680" y="5388120"/>
            <a:ext cx="1925640" cy="368280"/>
          </a:xfrm>
          <a:prstGeom prst="rect">
            <a:avLst/>
          </a:prstGeom>
          <a:solidFill>
            <a:srgbClr val="c6dbf2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12"/>
          <p:cNvSpPr/>
          <p:nvPr/>
        </p:nvSpPr>
        <p:spPr>
          <a:xfrm>
            <a:off x="3467160" y="2514600"/>
            <a:ext cx="1962000" cy="1162080"/>
          </a:xfrm>
          <a:prstGeom prst="ellipse">
            <a:avLst/>
          </a:prstGeom>
          <a:solidFill>
            <a:srgbClr val="adadd9"/>
          </a:solidFill>
          <a:ln cap="rnd"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f3f3f"/>
                </a:solidFill>
                <a:latin typeface="Arial"/>
              </a:rPr>
              <a:t>Industry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9"/>
          <p:cNvSpPr/>
          <p:nvPr/>
        </p:nvSpPr>
        <p:spPr>
          <a:xfrm>
            <a:off x="4381560" y="1571760"/>
            <a:ext cx="1838160" cy="1266840"/>
          </a:xfrm>
          <a:prstGeom prst="ellipse">
            <a:avLst/>
          </a:prstGeom>
          <a:solidFill>
            <a:srgbClr val="ffa7a7"/>
          </a:solidFill>
          <a:ln cap="rnd"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f3f3f"/>
                </a:solidFill>
                <a:latin typeface="Arial"/>
              </a:rPr>
              <a:t>FMA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10"/>
          <p:cNvSpPr/>
          <p:nvPr/>
        </p:nvSpPr>
        <p:spPr>
          <a:xfrm>
            <a:off x="2619360" y="1562040"/>
            <a:ext cx="1933560" cy="1285920"/>
          </a:xfrm>
          <a:prstGeom prst="ellipse">
            <a:avLst/>
          </a:prstGeom>
          <a:solidFill>
            <a:srgbClr val="cbecde"/>
          </a:solidFill>
          <a:ln cap="rnd"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f3f3f"/>
                </a:solidFill>
                <a:latin typeface="Arial"/>
              </a:rPr>
              <a:t>Australian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traight Connector 14"/>
          <p:cNvSpPr/>
          <p:nvPr/>
        </p:nvSpPr>
        <p:spPr>
          <a:xfrm>
            <a:off x="2629080" y="4362480"/>
            <a:ext cx="3676320" cy="0"/>
          </a:xfrm>
          <a:prstGeom prst="line">
            <a:avLst/>
          </a:prstGeom>
          <a:ln cap="rnd"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7"/>
          <p:cNvSpPr/>
          <p:nvPr/>
        </p:nvSpPr>
        <p:spPr>
          <a:xfrm>
            <a:off x="2695680" y="3895560"/>
            <a:ext cx="360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f3f3f"/>
                </a:solidFill>
                <a:latin typeface="Arial"/>
              </a:rPr>
              <a:t>CRC-Construction Innovation </a:t>
            </a:r>
            <a:r>
              <a:rPr b="1" lang="en-AU" sz="1400" spc="-1" strike="noStrike">
                <a:solidFill>
                  <a:srgbClr val="3f3f3f"/>
                </a:solidFill>
                <a:latin typeface="Arial"/>
              </a:rPr>
              <a:t>and Industry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traight Connector 18"/>
          <p:cNvSpPr/>
          <p:nvPr/>
        </p:nvSpPr>
        <p:spPr>
          <a:xfrm flipV="1">
            <a:off x="2629080" y="3689280"/>
            <a:ext cx="0" cy="657360"/>
          </a:xfrm>
          <a:prstGeom prst="line">
            <a:avLst/>
          </a:prstGeom>
          <a:ln cap="rnd"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traight Connector 20"/>
          <p:cNvSpPr/>
          <p:nvPr/>
        </p:nvSpPr>
        <p:spPr>
          <a:xfrm flipV="1">
            <a:off x="6315120" y="3708360"/>
            <a:ext cx="0" cy="657360"/>
          </a:xfrm>
          <a:prstGeom prst="line">
            <a:avLst/>
          </a:prstGeom>
          <a:ln cap="rnd"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traight Connector 21"/>
          <p:cNvSpPr/>
          <p:nvPr/>
        </p:nvSpPr>
        <p:spPr>
          <a:xfrm flipV="1">
            <a:off x="6315120" y="2850840"/>
            <a:ext cx="0" cy="657000"/>
          </a:xfrm>
          <a:prstGeom prst="line">
            <a:avLst/>
          </a:prstGeom>
          <a:ln cap="rnd" w="19080">
            <a:solidFill>
              <a:srgbClr val="3f3f3f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traight Connector 22"/>
          <p:cNvSpPr/>
          <p:nvPr/>
        </p:nvSpPr>
        <p:spPr>
          <a:xfrm flipV="1">
            <a:off x="2629080" y="2860560"/>
            <a:ext cx="0" cy="657360"/>
          </a:xfrm>
          <a:prstGeom prst="line">
            <a:avLst/>
          </a:prstGeom>
          <a:ln cap="rnd" w="19080">
            <a:solidFill>
              <a:srgbClr val="3f3f3f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4"/>
          <p:cNvSpPr/>
          <p:nvPr/>
        </p:nvSpPr>
        <p:spPr>
          <a:xfrm>
            <a:off x="2914560" y="2428920"/>
            <a:ext cx="3143520" cy="409680"/>
          </a:xfrm>
          <a:prstGeom prst="rect">
            <a:avLst/>
          </a:prstGeom>
          <a:solidFill>
            <a:srgbClr val="ff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f3f3f"/>
                </a:solidFill>
                <a:latin typeface="Arial"/>
              </a:rPr>
              <a:t>FM Action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25"/>
          <p:cNvSpPr/>
          <p:nvPr/>
        </p:nvSpPr>
        <p:spPr>
          <a:xfrm>
            <a:off x="3422160" y="5388120"/>
            <a:ext cx="2401200" cy="368280"/>
          </a:xfrm>
          <a:prstGeom prst="rect">
            <a:avLst/>
          </a:prstGeom>
          <a:solidFill>
            <a:srgbClr val="cfafe7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26"/>
          <p:cNvSpPr/>
          <p:nvPr/>
        </p:nvSpPr>
        <p:spPr>
          <a:xfrm>
            <a:off x="1422360" y="5397480"/>
            <a:ext cx="2094120" cy="368280"/>
          </a:xfrm>
          <a:prstGeom prst="rect">
            <a:avLst/>
          </a:prstGeom>
          <a:solidFill>
            <a:srgbClr val="cdcdec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Digital 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0" name="Straight Arrow Connector 37"/>
          <p:cNvCxnSpPr/>
          <p:nvPr/>
        </p:nvCxnSpPr>
        <p:spPr>
          <a:xfrm>
            <a:off x="2466720" y="5181480"/>
            <a:ext cx="3960" cy="216720"/>
          </a:xfrm>
          <a:prstGeom prst="straightConnector1">
            <a:avLst/>
          </a:prstGeom>
          <a:ln cap="rnd" w="15840">
            <a:solidFill>
              <a:srgbClr val="3f3f3f"/>
            </a:solidFill>
            <a:miter/>
            <a:tailEnd len="lg" type="arrow" w="lg"/>
          </a:ln>
        </p:spPr>
      </p:cxnSp>
      <p:cxnSp>
        <p:nvCxnSpPr>
          <p:cNvPr id="981" name="Straight Arrow Connector 41"/>
          <p:cNvCxnSpPr/>
          <p:nvPr/>
        </p:nvCxnSpPr>
        <p:spPr>
          <a:xfrm flipH="1">
            <a:off x="6558840" y="5161320"/>
            <a:ext cx="3960" cy="235800"/>
          </a:xfrm>
          <a:prstGeom prst="straightConnector1">
            <a:avLst/>
          </a:prstGeom>
          <a:ln cap="rnd" w="15840">
            <a:solidFill>
              <a:srgbClr val="3f3f3f"/>
            </a:solidFill>
            <a:miter/>
            <a:tailEnd len="lg" type="arrow" w="lg"/>
          </a:ln>
        </p:spPr>
      </p:cxnSp>
      <p:cxnSp>
        <p:nvCxnSpPr>
          <p:cNvPr id="982" name="Straight Arrow Connector 42"/>
          <p:cNvCxnSpPr/>
          <p:nvPr/>
        </p:nvCxnSpPr>
        <p:spPr>
          <a:xfrm flipH="1">
            <a:off x="4539600" y="5171040"/>
            <a:ext cx="3960" cy="235800"/>
          </a:xfrm>
          <a:prstGeom prst="straightConnector1">
            <a:avLst/>
          </a:prstGeom>
          <a:ln cap="rnd" w="15840">
            <a:solidFill>
              <a:srgbClr val="3f3f3f"/>
            </a:solidFill>
            <a:miter/>
            <a:tailEnd len="lg" type="arrow" w="lg"/>
          </a:ln>
        </p:spPr>
      </p:cxnSp>
      <p:sp>
        <p:nvSpPr>
          <p:cNvPr id="983" name="Straight Connector 44"/>
          <p:cNvSpPr/>
          <p:nvPr/>
        </p:nvSpPr>
        <p:spPr>
          <a:xfrm flipV="1">
            <a:off x="4543560" y="4862520"/>
            <a:ext cx="2880" cy="396720"/>
          </a:xfrm>
          <a:prstGeom prst="line">
            <a:avLst/>
          </a:prstGeom>
          <a:ln cap="rnd" w="158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traight Connector 43"/>
          <p:cNvSpPr/>
          <p:nvPr/>
        </p:nvSpPr>
        <p:spPr>
          <a:xfrm flipV="1">
            <a:off x="2476440" y="5162040"/>
            <a:ext cx="4076640" cy="9720"/>
          </a:xfrm>
          <a:prstGeom prst="line">
            <a:avLst/>
          </a:prstGeom>
          <a:ln cap="rnd" w="158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5" name="Straight Arrow Connector 27"/>
          <p:cNvCxnSpPr/>
          <p:nvPr/>
        </p:nvCxnSpPr>
        <p:spPr>
          <a:xfrm flipH="1">
            <a:off x="4539600" y="4370760"/>
            <a:ext cx="3960" cy="235800"/>
          </a:xfrm>
          <a:prstGeom prst="straightConnector1">
            <a:avLst/>
          </a:prstGeom>
          <a:ln cap="rnd" w="15840">
            <a:solidFill>
              <a:srgbClr val="3f3f3f"/>
            </a:solidFill>
            <a:miter/>
            <a:tailEnd len="lg" type="arrow" w="lg"/>
          </a:ln>
        </p:spPr>
      </p:cxnSp>
      <p:sp>
        <p:nvSpPr>
          <p:cNvPr id="986" name="Straight Connector 29"/>
          <p:cNvSpPr/>
          <p:nvPr/>
        </p:nvSpPr>
        <p:spPr>
          <a:xfrm flipV="1">
            <a:off x="2448000" y="5952600"/>
            <a:ext cx="4076640" cy="9720"/>
          </a:xfrm>
          <a:prstGeom prst="line">
            <a:avLst/>
          </a:prstGeom>
          <a:ln cap="rnd" w="158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ydney Opera Hous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61800" y="1571760"/>
            <a:ext cx="83059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7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2c8"/>
                </a:solidFill>
                <a:latin typeface="Arial"/>
              </a:rPr>
              <a:t>Sydney Opera House has a design life of 250 years and a very high quality of construction and finish appropriate for NSW’s most prestigious entertainment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7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2c8"/>
                </a:solidFill>
                <a:latin typeface="Arial"/>
              </a:rPr>
              <a:t>Sydney Opera House comprises 7 theatres, 37 plant rooms, 12 lifts and over 1000 ro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7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2c8"/>
                </a:solidFill>
                <a:latin typeface="Arial"/>
              </a:rPr>
              <a:t>Sydney Opera House employs 300 full-time staff and a further 300 part-time staff and delivers over 2500 performances per ann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35842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ohn McCa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Who are CRC-CI?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61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17ccf"/>
                </a:solidFill>
                <a:latin typeface="Arial"/>
              </a:rPr>
              <a:t>The Cooperative Research Centre (CRC) for Construction Innovation</a:t>
            </a:r>
            <a:r>
              <a:rPr b="0" lang="en-AU" sz="2800" spc="-1" strike="noStrike">
                <a:solidFill>
                  <a:srgbClr val="317ccf"/>
                </a:solidFill>
                <a:latin typeface="Arial"/>
              </a:rPr>
              <a:t> is Australia’s only research and development body solely devoted to improving practices in the property, design, construction and facility management 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33794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ohn McCa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AU" sz="3800" spc="-1" strike="noStrike">
                <a:solidFill>
                  <a:srgbClr val="ffffff"/>
                </a:solidFill>
                <a:latin typeface="Arial"/>
              </a:rPr>
              <a:t>CRC core partner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2112840" y="1333440"/>
            <a:ext cx="5411880" cy="548640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Box 34817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ohn McCa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Rectangle 34818" descr="CRCCI Logo"/>
          <p:cNvPicPr/>
          <p:nvPr/>
        </p:nvPicPr>
        <p:blipFill>
          <a:blip r:embed="rId1"/>
          <a:stretch/>
        </p:blipFill>
        <p:spPr>
          <a:xfrm>
            <a:off x="509760" y="1733400"/>
            <a:ext cx="1944360" cy="920880"/>
          </a:xfrm>
          <a:prstGeom prst="rect">
            <a:avLst/>
          </a:prstGeom>
          <a:ln w="0">
            <a:noFill/>
          </a:ln>
        </p:spPr>
      </p:pic>
      <p:grpSp>
        <p:nvGrpSpPr>
          <p:cNvPr id="1002" name="Group 18"/>
          <p:cNvGrpSpPr/>
          <p:nvPr/>
        </p:nvGrpSpPr>
        <p:grpSpPr>
          <a:xfrm>
            <a:off x="426960" y="2654280"/>
            <a:ext cx="7589880" cy="762120"/>
            <a:chOff x="426960" y="2654280"/>
            <a:chExt cx="7589880" cy="762120"/>
          </a:xfrm>
        </p:grpSpPr>
        <p:sp>
          <p:nvSpPr>
            <p:cNvPr id="1003" name="Rectangle 34831"/>
            <p:cNvSpPr/>
            <p:nvPr/>
          </p:nvSpPr>
          <p:spPr>
            <a:xfrm>
              <a:off x="426960" y="3048120"/>
              <a:ext cx="44593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c8"/>
                  </a:solidFill>
                  <a:latin typeface="Arial"/>
                  <a:ea typeface="MS Mincho"/>
                </a:rPr>
                <a:t>Research </a:t>
              </a:r>
              <a:r>
                <a:rPr b="0" lang="en-AU" sz="2400" spc="-1" strike="noStrike">
                  <a:solidFill>
                    <a:srgbClr val="0072c8"/>
                  </a:solidFill>
                  <a:latin typeface="Arial"/>
                  <a:ea typeface="MS Mincho"/>
                </a:rPr>
                <a:t>organis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4" name="Rectangle 34832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114800" y="2654280"/>
              <a:ext cx="6285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Rectangle 34833" descr=""/>
            <p:cNvPicPr/>
            <p:nvPr/>
          </p:nvPicPr>
          <p:blipFill>
            <a:blip r:embed="rId4"/>
            <a:stretch/>
          </p:blipFill>
          <p:spPr>
            <a:xfrm>
              <a:off x="5045040" y="2811240"/>
              <a:ext cx="297180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6" name="Group 25"/>
          <p:cNvGrpSpPr/>
          <p:nvPr/>
        </p:nvGrpSpPr>
        <p:grpSpPr>
          <a:xfrm>
            <a:off x="447840" y="3990960"/>
            <a:ext cx="8229600" cy="716760"/>
            <a:chOff x="447840" y="3990960"/>
            <a:chExt cx="8229600" cy="716760"/>
          </a:xfrm>
        </p:grpSpPr>
        <p:sp>
          <p:nvSpPr>
            <p:cNvPr id="1007" name="Rectangle 34827"/>
            <p:cNvSpPr/>
            <p:nvPr/>
          </p:nvSpPr>
          <p:spPr>
            <a:xfrm>
              <a:off x="447840" y="4378320"/>
              <a:ext cx="36590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c8"/>
                  </a:solidFill>
                  <a:latin typeface="Arial"/>
                  <a:ea typeface="MS Mincho"/>
                </a:rPr>
                <a:t>Industry particip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8" name="Rectangle 34828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570640" y="3990960"/>
              <a:ext cx="8604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Rectangle 34829" descr=""/>
            <p:cNvPicPr/>
            <p:nvPr/>
          </p:nvPicPr>
          <p:blipFill>
            <a:blip r:embed="rId7"/>
            <a:srcRect l="0" t="0" r="44261" b="-5940"/>
            <a:stretch/>
          </p:blipFill>
          <p:spPr>
            <a:xfrm>
              <a:off x="6694920" y="4348080"/>
              <a:ext cx="198252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Rectangle 34830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4084920" y="4095720"/>
              <a:ext cx="1217520" cy="54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1" name="Group 30"/>
          <p:cNvGrpSpPr/>
          <p:nvPr/>
        </p:nvGrpSpPr>
        <p:grpSpPr>
          <a:xfrm>
            <a:off x="457200" y="4960800"/>
            <a:ext cx="8420040" cy="960480"/>
            <a:chOff x="457200" y="4960800"/>
            <a:chExt cx="8420040" cy="960480"/>
          </a:xfrm>
        </p:grpSpPr>
        <p:sp>
          <p:nvSpPr>
            <p:cNvPr id="1012" name="Rectangle 34822"/>
            <p:cNvSpPr/>
            <p:nvPr/>
          </p:nvSpPr>
          <p:spPr>
            <a:xfrm>
              <a:off x="457200" y="5578560"/>
              <a:ext cx="39384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c8"/>
                  </a:solidFill>
                  <a:latin typeface="Arial"/>
                  <a:ea typeface="MS Mincho"/>
                </a:rPr>
                <a:t>Suppor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Rectangle 34823" descr="Queensland Government logo">
              <a:hlinkClick r:id="rId10"/>
            </p:cNvPr>
            <p:cNvPicPr/>
            <p:nvPr/>
          </p:nvPicPr>
          <p:blipFill>
            <a:blip r:embed="rId11"/>
            <a:srcRect l="0" t="0" r="0" b="-1969"/>
            <a:stretch/>
          </p:blipFill>
          <p:spPr>
            <a:xfrm>
              <a:off x="7257960" y="5238720"/>
              <a:ext cx="16192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Rectangle 34824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343480" y="5127480"/>
              <a:ext cx="7650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Rectangle 34825" descr=""/>
            <p:cNvPicPr/>
            <p:nvPr/>
          </p:nvPicPr>
          <p:blipFill>
            <a:blip r:embed="rId14"/>
            <a:stretch/>
          </p:blipFill>
          <p:spPr>
            <a:xfrm>
              <a:off x="3879720" y="4960800"/>
              <a:ext cx="123336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Rectangle 34826" descr=""/>
            <p:cNvPicPr/>
            <p:nvPr/>
          </p:nvPicPr>
          <p:blipFill>
            <a:blip r:embed="rId15"/>
            <a:srcRect l="0" t="0" r="0" b="-4366"/>
            <a:stretch/>
          </p:blipFill>
          <p:spPr>
            <a:xfrm>
              <a:off x="6359400" y="5124240"/>
              <a:ext cx="817560" cy="7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7" name="" descr=""/>
          <p:cNvPicPr/>
          <p:nvPr/>
        </p:nvPicPr>
        <p:blipFill>
          <a:blip r:embed="rId16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6"/>
          <p:cNvSpPr/>
          <p:nvPr/>
        </p:nvSpPr>
        <p:spPr>
          <a:xfrm>
            <a:off x="704880" y="1835280"/>
            <a:ext cx="77724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1" lang="en-AU" sz="3800" spc="-1" strike="noStrike">
                <a:solidFill>
                  <a:srgbClr val="0072c8"/>
                </a:solidFill>
                <a:latin typeface="Arial"/>
              </a:rPr>
              <a:t>Stephen Balles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</a:tabLst>
            </a:pPr>
            <a:r>
              <a:rPr b="1" lang="en-AU" sz="2800" spc="-1" strike="noStrike">
                <a:solidFill>
                  <a:srgbClr val="0072c8"/>
                </a:solidFill>
                <a:latin typeface="Arial"/>
              </a:rPr>
              <a:t>Chairman FMA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en-AU" sz="2800" spc="-1" strike="noStrike">
                <a:solidFill>
                  <a:srgbClr val="0072c8"/>
                </a:solidFill>
                <a:latin typeface="Arial Unicode MS"/>
              </a:rPr>
              <a:t>Rider 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</a:tabLst>
            </a:pPr>
            <a:r>
              <a:rPr b="1" lang="en-AU" sz="2800" spc="-1" strike="noStrike">
                <a:solidFill>
                  <a:srgbClr val="0072c8"/>
                </a:solidFill>
                <a:latin typeface="Arial"/>
              </a:rPr>
              <a:t>Project Overview and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36865"/>
          <p:cNvSpPr/>
          <p:nvPr/>
        </p:nvSpPr>
        <p:spPr>
          <a:xfrm>
            <a:off x="2268360" y="61578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Balle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2071800" y="6126120"/>
            <a:ext cx="785880" cy="4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3:40:38Z</dcterms:created>
  <dc:creator>CMP-CRC</dc:creator>
  <dc:description/>
  <dc:language>en-US</dc:language>
  <cp:lastModifiedBy>Carolyn Todd</cp:lastModifiedBy>
  <dcterms:modified xsi:type="dcterms:W3CDTF">2006-11-16T03:32:40Z</dcterms:modified>
  <cp:revision>276</cp:revision>
  <dc:subject/>
  <dc:title>The CRC for  Construction Innovation:  Second Year Review - Stage 2</dc:title>
</cp:coreProperties>
</file>